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AE88-EC1D-4C54-B1B5-D494903D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0B1-59C2-45DB-B91F-CB3DD734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55A-4BCA-4503-8E12-BAB1EFD4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0356-9939-43E2-B0B2-AA4D4225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2F2-10B8-4666-8910-73E45CC1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D83-BD43-434B-B8ED-F7AE54FF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DC2-4153-48E8-B7A3-F8BE8F67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8A7-1B82-44A7-8718-5BE1D2B9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A86-7B9D-412E-8C46-6BE5E8C2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A06-00D1-43A4-B323-B3234E34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354-E71E-4347-8317-750A8B9E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DE4-8DBD-4951-8F3B-990ACD59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E168-5DAF-49BE-84C0-3D39F61E1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685800"/>
            <a:ext cx="8153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Microscope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6248520"/>
            <a:ext cx="2971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52880" y="3657600"/>
            <a:ext cx="2938680" cy="2959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4197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kno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microsco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4480" y="990720"/>
            <a:ext cx="8991360" cy="49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art regulates the amount of light on a specim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the eyepiece has a power of 12X and the objective has a power of 10X, what is the power of magn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hat part of the microscope holds the objective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hat part allows you to make small changes in your view of a specim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 each question about microsco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480" y="990720"/>
            <a:ext cx="899136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art regulates the amount of light on a specim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the eyepiece has a power of 12X and the objective has a power of 10X, what is the power of magn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What part of the microscope holds the objective le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hat part allows you to make small changes in your view of a specim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8040" y="152388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4880" y="3200400"/>
            <a:ext cx="274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X x 10X = 12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14880" y="4419720"/>
            <a:ext cx="274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5715000"/>
            <a:ext cx="358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adjustment kn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10-26T20:12:38Z</dcterms:modified>
  <cp:revision>33</cp:revision>
  <dc:subject/>
  <dc:title>Slide 1</dc:title>
</cp:coreProperties>
</file>