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B7A-B375-481C-8949-C389E3C5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75A-9C8C-4F60-9E96-A5112F34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658-2F87-4017-88F0-69481DA1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5F8-4B9A-42E7-B5BB-BC46DDB3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8AF-F9C2-4055-A28C-2BE7360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DC8-2D2E-4844-A7C5-AD8C325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A95-9C17-41A7-A20D-242E78BD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005-E2AE-4FAD-BC0B-6C72E8B5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575-D9E1-434F-BED4-7144467D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D77-D948-49F7-B5B5-F3E850B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575-7A23-4598-83A5-6CC5849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5F7-80CD-4683-959B-3C124D7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261-CC68-400E-BC77-954EB1172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Microscope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197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kn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microsco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480" y="990720"/>
            <a:ext cx="899136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art regulates the amount of light on a speci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the eyepiece has a power of 12X and the objective has a power of 10X, what is the power of magn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at part of the microscope holds the objective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hat part allows you to make small changes in your view of a specim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 each question about microsco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480" y="990720"/>
            <a:ext cx="899136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art regulates the amount of light on a speci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the eyepiece has a power of 12X and the objective has a power of 10X, what is the power of magn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at part of the microscope holds the objective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hat part allows you to make small changes in your view of a specim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8040" y="152388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4880" y="320040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X x 10X = 12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14880" y="441972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7150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 kn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20:12:38Z</dcterms:modified>
  <cp:revision>33</cp:revision>
  <dc:subject/>
  <dc:title>Slide 1</dc:title>
</cp:coreProperties>
</file>