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76CE-7E41-45C0-BC31-4798CCB5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4DC-2E58-4E92-84C8-7CEEF274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B23-DA0A-47C1-A8A6-B5EEA7CB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7DA-3E64-4420-B3C2-0846D324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5C9-5A61-4AF8-B407-0D8614A6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6C9-62A6-43A8-9B0F-8CC1CD05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3E1-DBA2-4816-AA23-ED98691D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C9E-50B1-4DBB-B5FC-E24359C3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3D2-B981-4EC3-9B1B-89C49970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116-244A-4409-A22D-C8CCC728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143-53A0-45AA-9099-64035C4B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72E-8A30-44C4-928D-FC6931FA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AEE7-2E2D-417E-904D-62A41AC93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685800"/>
            <a:ext cx="81536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Microscope Basics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409760" y="62485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938680" cy="2959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464832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kno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microscop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28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wer these questions based on your knowledge of microsco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06668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re should you hold on to the microscope when you carry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is the scientific term for the eyepie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If the ocular lens has a power of 4X and the objective you are using has a power of 10X, what is your power of magnific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What is the function of the diaphrag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228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06668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re should you hold on to the microscope when you carry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is the scientific term for the eyepie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If the ocular lens has a power of 4X and the objective you are using has a power of 10X, what is your power of magnific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What is the function of the diaphrag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67160" y="160020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m &amp;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67160" y="310824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67160" y="470844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X x 10X = 40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004080"/>
            <a:ext cx="8610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 regulates the amount of slide that passes through the speci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14:46:29Z</dcterms:created>
  <dc:creator>admin</dc:creator>
  <dc:description/>
  <dc:language>en-US</dc:language>
  <cp:lastModifiedBy>Tracy Trimpe</cp:lastModifiedBy>
  <dcterms:modified xsi:type="dcterms:W3CDTF">2008-10-26T20:09:08Z</dcterms:modified>
  <cp:revision>38</cp:revision>
  <dc:subject/>
  <dc:title>Microscope Basics</dc:title>
</cp:coreProperties>
</file>