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BCB-D5FC-4A8C-B6BC-8964AB5E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1BB-99C1-4F52-A199-BE2842E8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CA2-26B9-42E2-A501-859DF0F7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83E-F6ED-47EA-B530-BC2588FF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ACF-59BA-434B-90B5-222FE84C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463-5203-49C9-B98E-25E14D91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64B-0E66-43C7-9D9E-36B6CA7A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5F7-6344-4AA0-BB41-57F63132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6D9-C004-4EB2-B74D-86DC93A0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E95-A5B2-4022-8514-FC550049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60D-8E77-4A6C-A78D-791B9157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76D-4EDC-4C90-B5A8-B537DD1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9361-5666-4D86-8378-2A8BD2E27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Microscope Basic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46483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kno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microscop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 these questions based on your knowledge of microsco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06668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should you hold on to the microscope when you carry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is the scientific term for the eyepie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If the ocular lens has a power of 4X and the objective you are using has a power of 10X, what is your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is the function of the diaphrag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06668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should you hold on to the microscope when you carry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is the scientific term for the eyepie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If the ocular lens has a power of 4X and the objective you are using has a power of 10X, what is your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is the function of the diaphrag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7160" y="160020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m &amp;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67160" y="310824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67160" y="470844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X x 10X = 40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004080"/>
            <a:ext cx="8610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regulates the amount of slide that passes through the speci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10-26T20:09:08Z</dcterms:modified>
  <cp:revision>38</cp:revision>
  <dc:subject/>
  <dc:title>Microscope Basics</dc:title>
</cp:coreProperties>
</file>