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431-3F4C-4715-86B1-93EE43461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2CD-6583-4252-AA05-F5AC5A11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6AB-C42D-4240-95B3-90EBADC6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9B0-8828-4649-9189-C85FC947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77C-F123-4E17-976E-13C8EB61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B4D-AE06-41BC-BC47-BBF2403D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A62-1314-4FCF-AAEE-F01BFEF8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D8C-C556-401F-B2B5-AFA6C647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153C-37C7-439B-864E-4EFC995D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6972-0764-4BEC-9608-5F55D134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59E-9500-4DE5-A687-67016934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EEBB-B563-4089-8B67-6058A896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3C0A-0CBD-4542-A007-9AC67BD29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685800"/>
            <a:ext cx="81536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Microscope Basics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409760" y="62485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938680" cy="2959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464832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3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kno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microscop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28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wer these questions based on your knowledge of microscop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066680"/>
            <a:ext cx="87631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If you have three objectives – 10X, 30X, and 40X, which one has the lowest power of magnific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ich of these images would be taken with a high power objecti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does your view of a specimen change as you increase your power of magnific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362320" y="2895480"/>
            <a:ext cx="4343400" cy="1295280"/>
            <a:chOff x="2362320" y="2895480"/>
            <a:chExt cx="4343400" cy="1295280"/>
          </a:xfrm>
        </p:grpSpPr>
        <p:pic>
          <p:nvPicPr>
            <p:cNvPr id="49" name="" descr=""/>
            <p:cNvPicPr/>
            <p:nvPr/>
          </p:nvPicPr>
          <p:blipFill>
            <a:blip r:embed="rId1"/>
            <a:srcRect l="21869" t="13832" r="2268" b="11168"/>
            <a:stretch/>
          </p:blipFill>
          <p:spPr>
            <a:xfrm>
              <a:off x="2362320" y="2895480"/>
              <a:ext cx="1815840" cy="12952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rcRect l="31601" t="20000" r="26667" b="39672"/>
            <a:stretch/>
          </p:blipFill>
          <p:spPr>
            <a:xfrm>
              <a:off x="4846680" y="2896920"/>
              <a:ext cx="1859040" cy="12924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1066680"/>
            <a:ext cx="876312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If you have three objectives – 10X, 30X, and 40X, which one has the lowest power of magnific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ich of these images would be taken with a high power objecti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does your view of a specimen change as you increase your power of magnific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362320" y="2895480"/>
            <a:ext cx="4343400" cy="1295280"/>
            <a:chOff x="2362320" y="2895480"/>
            <a:chExt cx="4343400" cy="1295280"/>
          </a:xfrm>
        </p:grpSpPr>
        <p:pic>
          <p:nvPicPr>
            <p:cNvPr id="53" name="" descr=""/>
            <p:cNvPicPr/>
            <p:nvPr/>
          </p:nvPicPr>
          <p:blipFill>
            <a:blip r:embed="rId1"/>
            <a:srcRect l="21869" t="13832" r="2268" b="11168"/>
            <a:stretch/>
          </p:blipFill>
          <p:spPr>
            <a:xfrm>
              <a:off x="2362320" y="2895480"/>
              <a:ext cx="1815840" cy="12952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rcRect l="31601" t="20000" r="26667" b="39672"/>
            <a:stretch/>
          </p:blipFill>
          <p:spPr>
            <a:xfrm>
              <a:off x="4846680" y="2896920"/>
              <a:ext cx="1859040" cy="12924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  <p:sp>
        <p:nvSpPr>
          <p:cNvPr id="55" name=""/>
          <p:cNvSpPr/>
          <p:nvPr/>
        </p:nvSpPr>
        <p:spPr>
          <a:xfrm>
            <a:off x="152280" y="228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1600200"/>
            <a:ext cx="2133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4038480"/>
            <a:ext cx="2133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5334120"/>
            <a:ext cx="59436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 are able to see the specimen in more detail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you cannot see as much of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14:46:29Z</dcterms:created>
  <dc:creator>admin</dc:creator>
  <dc:description/>
  <dc:language>en-US</dc:language>
  <cp:lastModifiedBy>Tracy Trimpe</cp:lastModifiedBy>
  <dcterms:modified xsi:type="dcterms:W3CDTF">2008-10-26T20:08:52Z</dcterms:modified>
  <cp:revision>40</cp:revision>
  <dc:subject/>
  <dc:title>Microscope Basics</dc:title>
</cp:coreProperties>
</file>