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8B0-7886-48F8-8B28-8BF37133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8A4-1B4E-4962-B026-71480ED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600-A431-4CC3-8FE4-96742467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9AF-7EDA-49FC-8E0B-27AE7A99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E73-562B-49F3-85D2-1CB0783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55B-9040-4728-A0F0-39837A01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066-F76E-4359-97FE-397FA18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D1C-554D-4721-B479-47972B4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CB9-DF89-4C83-80C2-DE329BE0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0EF-C974-41D6-B059-E1291A1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2F8-A84D-44AB-B3F0-18BA59B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9F3-BEA6-491D-9907-2516C31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74D-B6CC-4B52-99E9-2DE0C1D1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based on your knowledge of microsco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0666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f you have three objectives – 10X, 30X, and 40X, which one has the lowest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of these images would be taken with a high power objec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your view of a specimen change as you increase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362320" y="2895480"/>
            <a:ext cx="4343400" cy="1295280"/>
            <a:chOff x="2362320" y="2895480"/>
            <a:chExt cx="4343400" cy="12952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21869" t="13832" r="2268" b="11168"/>
            <a:stretch/>
          </p:blipFill>
          <p:spPr>
            <a:xfrm>
              <a:off x="2362320" y="2895480"/>
              <a:ext cx="1815840" cy="1295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rcRect l="31601" t="20000" r="26667" b="39672"/>
            <a:stretch/>
          </p:blipFill>
          <p:spPr>
            <a:xfrm>
              <a:off x="4846680" y="2896920"/>
              <a:ext cx="1859040" cy="1292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0666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f you have three objectives – 10X, 30X, and 40X, which one has the lowest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of these images would be taken with a high power objec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your view of a specimen change as you increase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362320" y="2895480"/>
            <a:ext cx="4343400" cy="1295280"/>
            <a:chOff x="2362320" y="2895480"/>
            <a:chExt cx="4343400" cy="12952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1869" t="13832" r="2268" b="11168"/>
            <a:stretch/>
          </p:blipFill>
          <p:spPr>
            <a:xfrm>
              <a:off x="2362320" y="2895480"/>
              <a:ext cx="1815840" cy="1295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rcRect l="31601" t="20000" r="26667" b="39672"/>
            <a:stretch/>
          </p:blipFill>
          <p:spPr>
            <a:xfrm>
              <a:off x="4846680" y="2896920"/>
              <a:ext cx="1859040" cy="1292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55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60020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03848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334120"/>
            <a:ext cx="5943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are able to see the specimen in more detail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you cannot see as much of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8:52Z</dcterms:modified>
  <cp:revision>40</cp:revision>
  <dc:subject/>
  <dc:title>Microscope Basics</dc:title>
</cp:coreProperties>
</file>