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D13-74C9-4105-A19A-E3F165B4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C7F-7E0E-4C0B-A4D1-23D55589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355-94DE-4A98-879B-42460F04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B99-B686-4C41-9719-B631BFEE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39F-932D-446D-987D-672CE1A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EBB-7127-4979-B356-EAEDA1D0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7FE-8C94-40DD-87AF-33345C17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08E8-D14C-4515-9F9D-112A24A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31E-1CE3-4B65-A2F3-86D969E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05C-EB6F-47A5-9A40-2B8BE8A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271-196F-4A80-A13E-4C1C21F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DB6-9342-4765-97E6-7EA4CCE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F8B4-99FE-48D0-9166-99C796347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scope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s of the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70280" y="863640"/>
            <a:ext cx="6172200" cy="5765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990720"/>
            <a:ext cx="25909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arse Adjust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 Objective Len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123192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58280" y="72396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81952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58280" y="342900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58280" y="251460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267080"/>
            <a:ext cx="1371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4038480"/>
            <a:ext cx="1143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4572000"/>
            <a:ext cx="1143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parts of a microsc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666880" y="723960"/>
            <a:ext cx="6451560" cy="5905440"/>
            <a:chOff x="2666880" y="723960"/>
            <a:chExt cx="6451560" cy="59054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2946240" y="863640"/>
              <a:ext cx="6172200" cy="57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42840" y="123192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34240" y="72396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281952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34240" y="342900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34240" y="251460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6880" y="4267080"/>
              <a:ext cx="1371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8360" y="4038480"/>
              <a:ext cx="1143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48360" y="4572000"/>
              <a:ext cx="11430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04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69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704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Objective L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368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3032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5024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Coars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361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689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Fin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20:04:10Z</dcterms:modified>
  <cp:revision>26</cp:revision>
  <dc:subject/>
  <dc:title>Slide 1</dc:title>
</cp:coreProperties>
</file>