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B04-8BF4-41CF-84A4-90ADBD6F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983-5A59-4C6A-8F0D-3437A7E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C79-EE3E-4F3C-8D4D-CEB2B1F5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3DB-0E1A-4763-AB4B-56C72AF7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F61-BEC5-4281-B709-5546E71A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069-471D-4258-AE3C-18262F3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784-70DC-4363-821E-286FA524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D47-93F9-4479-9CE8-3716F93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EC7-5703-49E3-9BF3-28C6C3E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334-B080-4D1A-9591-0F35041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6AF-6A6F-4A80-8A4F-88CE162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FE6-AC6C-4E6B-8189-2DD6192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5B3-80AE-4EF4-9A1D-C0273AFD9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scope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s of the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70280" y="863640"/>
            <a:ext cx="6172200" cy="5765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990720"/>
            <a:ext cx="25909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 Objective Len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23192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8280" y="72396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81952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58280" y="342900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58280" y="251460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26708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4038480"/>
            <a:ext cx="1143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4572000"/>
            <a:ext cx="1143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parts of a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666880" y="723960"/>
            <a:ext cx="6451560" cy="5905440"/>
            <a:chOff x="2666880" y="723960"/>
            <a:chExt cx="6451560" cy="59054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946240" y="863640"/>
              <a:ext cx="6172200" cy="57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42840" y="123192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34240" y="72396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281952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34240" y="342900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34240" y="251460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6880" y="426708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8360" y="4038480"/>
              <a:ext cx="1143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8360" y="4572000"/>
              <a:ext cx="1143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04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69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704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Objective L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36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32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5024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Coars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36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689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Fin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20:04:10Z</dcterms:modified>
  <cp:revision>26</cp:revision>
  <dc:subject/>
  <dc:title>Slide 1</dc:title>
</cp:coreProperties>
</file>