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4E16-F941-42B9-96EB-694542DD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1652-DD38-4DE2-A5F6-5594B36B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D37C-E691-4DCE-B3D2-D239BAE7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AFF8-0B8B-4FAB-B9FD-A47C0C7B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E2BA-620A-4B34-9A70-B1A1EBCB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A773-79F8-46A0-8FF1-1B83F2C6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9BAE-F33A-4F46-9147-201BC93F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B21D-095E-438C-8417-A63B99C7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FECF-448D-42F3-A1C6-A550B99A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C1CC-04B2-4AC4-8309-FF0C1926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8DBF-3514-427F-8509-12614FDF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F6D5-D2AC-4FDA-8837-F5C2397D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43D2-9C2E-46BE-81EF-4F2E98261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685800"/>
            <a:ext cx="815364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Microscope Basics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1409760" y="6248520"/>
            <a:ext cx="2971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952880" y="3657600"/>
            <a:ext cx="2938680" cy="2959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441972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llenge #1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s of the Micr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00400" y="1362240"/>
            <a:ext cx="5638680" cy="5267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280" y="228600"/>
            <a:ext cx="899172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bel the parts of the microscope using the words provi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ular L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phrag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sepie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e Adjustment Kno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arse Adjustment Kn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2657520"/>
            <a:ext cx="914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3168720"/>
            <a:ext cx="914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4562640"/>
            <a:ext cx="914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01000" y="1297080"/>
            <a:ext cx="914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24680" y="4290840"/>
            <a:ext cx="914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924680" y="4863960"/>
            <a:ext cx="914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 flipH="1">
            <a:off x="456840" y="4343400"/>
            <a:ext cx="205740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2280" y="228600"/>
            <a:ext cx="89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676520" y="990720"/>
            <a:ext cx="5867280" cy="5332320"/>
            <a:chOff x="1676520" y="990720"/>
            <a:chExt cx="5867280" cy="533232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1828800" y="1055880"/>
              <a:ext cx="5638680" cy="52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676520" y="2351160"/>
              <a:ext cx="91440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76520" y="2862360"/>
              <a:ext cx="91440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76520" y="4256280"/>
              <a:ext cx="91440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629400" y="990720"/>
              <a:ext cx="91440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53080" y="3984480"/>
              <a:ext cx="91440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4557600"/>
              <a:ext cx="91440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7658280" y="838080"/>
            <a:ext cx="1143000" cy="703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cular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267080"/>
            <a:ext cx="13716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aphrag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760" y="2879640"/>
            <a:ext cx="129528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760" y="2362320"/>
            <a:ext cx="129528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sepie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43800" y="4572000"/>
            <a:ext cx="1371600" cy="1313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n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justment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no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43800" y="3352680"/>
            <a:ext cx="1371600" cy="1313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ars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justment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no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14:46:29Z</dcterms:created>
  <dc:creator>admin</dc:creator>
  <dc:description/>
  <dc:language>en-US</dc:language>
  <cp:lastModifiedBy>Tracy Trimpe</cp:lastModifiedBy>
  <dcterms:modified xsi:type="dcterms:W3CDTF">2008-10-26T20:04:50Z</dcterms:modified>
  <cp:revision>37</cp:revision>
  <dc:subject/>
  <dc:title>Microscope Basics</dc:title>
</cp:coreProperties>
</file>