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799D-1767-4565-BDFF-004FBC1D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DDE5-8D29-4834-95B8-2C161938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5468-442F-4E52-9C1F-E1A5B1BB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90B0-0147-4B44-ADA7-8007A0EB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612-30C4-4B1D-8A29-034C51CA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D9F5-6CF6-4FD1-8CDD-CCD1C070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2B0D-55C0-4896-9E04-281ADF73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D8D-5EEE-4A8F-8A07-6779AB4A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6BB5-95C7-414F-BD8A-DB49F3D3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0C38-54FA-462D-BEF5-3F4089C5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5E1-D701-4C2A-A63B-5B03DC70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24AF-AE3F-4CCE-915A-0A353045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BAE0-906D-4E18-9FBC-54BFFDEF9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685800"/>
            <a:ext cx="81536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Microscope Basics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409760" y="62485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2938680" cy="2959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44197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 #1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s of the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0400" y="1362240"/>
            <a:ext cx="5638680" cy="5267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228600"/>
            <a:ext cx="89917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bel the parts of the microscope using the words provi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phrag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sepie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e Adjustment Kno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rse Adjustment Kn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657520"/>
            <a:ext cx="914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168720"/>
            <a:ext cx="914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4562640"/>
            <a:ext cx="914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01000" y="1297080"/>
            <a:ext cx="914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4290840"/>
            <a:ext cx="914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924680" y="4863960"/>
            <a:ext cx="914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 flipH="1">
            <a:off x="456840" y="4343400"/>
            <a:ext cx="20574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22860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676520" y="990720"/>
            <a:ext cx="5867280" cy="5332320"/>
            <a:chOff x="1676520" y="990720"/>
            <a:chExt cx="5867280" cy="533232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1828800" y="1055880"/>
              <a:ext cx="563868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676520" y="2351160"/>
              <a:ext cx="9144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76520" y="2862360"/>
              <a:ext cx="9144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6520" y="4256280"/>
              <a:ext cx="9144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29400" y="990720"/>
              <a:ext cx="9144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3080" y="3984480"/>
              <a:ext cx="9144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4557600"/>
              <a:ext cx="9144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7658280" y="838080"/>
            <a:ext cx="1143000" cy="703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cula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267080"/>
            <a:ext cx="13716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phrag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760" y="2879640"/>
            <a:ext cx="129528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760" y="2362320"/>
            <a:ext cx="129528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sepie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43800" y="4572000"/>
            <a:ext cx="1371600" cy="1313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n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justmen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no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3352680"/>
            <a:ext cx="1371600" cy="1313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ars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justmen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no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14:46:29Z</dcterms:created>
  <dc:creator>admin</dc:creator>
  <dc:description/>
  <dc:language>en-US</dc:language>
  <cp:lastModifiedBy>Tracy Trimpe</cp:lastModifiedBy>
  <dcterms:modified xsi:type="dcterms:W3CDTF">2008-10-26T20:04:50Z</dcterms:modified>
  <cp:revision>37</cp:revision>
  <dc:subject/>
  <dc:title>Microscope Basics</dc:title>
</cp:coreProperties>
</file>