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7D9-0083-4709-9D6A-20FE6E9F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8C5C-A834-4B4B-BC9A-EB5C0383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214-247F-429A-AD56-B6D4FE98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5D2-4C80-4F35-9761-B55914C4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A8F-09E7-4157-B1A5-9E89B071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630-BDD7-4444-B947-BE652EDC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D6CA-8D02-4E52-88BC-4635BAE7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496-1D06-4F6E-9343-35CF8DA1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A81-A0E7-4635-85E9-15A10377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C4B-7D89-48A2-80FF-DFBCAA2A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08EF-2AFC-44FC-AEA2-5DC2835E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53B-8B8C-4CA5-A561-007C9A15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8412-66FA-4F79-8CE8-4E657F501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838080"/>
            <a:ext cx="784872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Cooper Black"/>
              </a:rPr>
              <a:t>What's Wrong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 Safety Challeng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6477120"/>
            <a:ext cx="5562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30481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90720"/>
            <a:ext cx="891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’s wrong? Identify 9 different safe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rns shown in the picture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477120"/>
            <a:ext cx="84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morrisonlabs.com/lab_safet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27628" r="51696" b="30453"/>
          <a:stretch/>
        </p:blipFill>
        <p:spPr>
          <a:xfrm>
            <a:off x="685800" y="1371600"/>
            <a:ext cx="78487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27628" r="51696" b="30453"/>
          <a:stretch/>
        </p:blipFill>
        <p:spPr>
          <a:xfrm>
            <a:off x="685800" y="1371600"/>
            <a:ext cx="7848720" cy="4251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151200"/>
            <a:ext cx="89154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477120"/>
            <a:ext cx="84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morrisonlabs.com/lab_safet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8600" y="762120"/>
            <a:ext cx="2743200" cy="1904760"/>
            <a:chOff x="228600" y="762120"/>
            <a:chExt cx="2743200" cy="1904760"/>
          </a:xfrm>
        </p:grpSpPr>
        <p:sp>
          <p:nvSpPr>
            <p:cNvPr id="53" name=""/>
            <p:cNvSpPr/>
            <p:nvPr/>
          </p:nvSpPr>
          <p:spPr>
            <a:xfrm>
              <a:off x="228600" y="762120"/>
              <a:ext cx="205740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ways wear safety goggles during a lab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28800" y="152388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04920" y="4267080"/>
            <a:ext cx="3124080" cy="2151720"/>
            <a:chOff x="304920" y="4267080"/>
            <a:chExt cx="3124080" cy="2151720"/>
          </a:xfrm>
        </p:grpSpPr>
        <p:sp>
          <p:nvSpPr>
            <p:cNvPr id="56" name=""/>
            <p:cNvSpPr/>
            <p:nvPr/>
          </p:nvSpPr>
          <p:spPr>
            <a:xfrm>
              <a:off x="304920" y="5410080"/>
              <a:ext cx="205740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n’t leave materials laying on the floo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4267080"/>
              <a:ext cx="259092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657600" y="4419720"/>
            <a:ext cx="3124080" cy="1617840"/>
            <a:chOff x="3657600" y="4419720"/>
            <a:chExt cx="3124080" cy="1617840"/>
          </a:xfrm>
        </p:grpSpPr>
        <p:sp>
          <p:nvSpPr>
            <p:cNvPr id="59" name=""/>
            <p:cNvSpPr/>
            <p:nvPr/>
          </p:nvSpPr>
          <p:spPr>
            <a:xfrm>
              <a:off x="3657600" y="5638680"/>
              <a:ext cx="31240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ean up spills immediat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6200" y="4419720"/>
              <a:ext cx="259092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505320" y="1066680"/>
            <a:ext cx="2133360" cy="1981440"/>
            <a:chOff x="3505320" y="1066680"/>
            <a:chExt cx="2133360" cy="1981440"/>
          </a:xfrm>
        </p:grpSpPr>
        <p:sp>
          <p:nvSpPr>
            <p:cNvPr id="62" name=""/>
            <p:cNvSpPr/>
            <p:nvPr/>
          </p:nvSpPr>
          <p:spPr>
            <a:xfrm>
              <a:off x="3581280" y="1066680"/>
              <a:ext cx="20574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n’t heat closed container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05320" y="19051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181480" y="1066680"/>
            <a:ext cx="3048120" cy="2971800"/>
            <a:chOff x="5181480" y="1066680"/>
            <a:chExt cx="3048120" cy="2971800"/>
          </a:xfrm>
        </p:grpSpPr>
        <p:sp>
          <p:nvSpPr>
            <p:cNvPr id="65" name=""/>
            <p:cNvSpPr/>
            <p:nvPr/>
          </p:nvSpPr>
          <p:spPr>
            <a:xfrm>
              <a:off x="5943600" y="1066680"/>
              <a:ext cx="22860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eep your lab area neat and clea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81480" y="1828800"/>
              <a:ext cx="2438640" cy="2209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553080" y="3276720"/>
            <a:ext cx="2362320" cy="1999080"/>
            <a:chOff x="6553080" y="3276720"/>
            <a:chExt cx="2362320" cy="1999080"/>
          </a:xfrm>
        </p:grpSpPr>
        <p:sp>
          <p:nvSpPr>
            <p:cNvPr id="68" name=""/>
            <p:cNvSpPr/>
            <p:nvPr/>
          </p:nvSpPr>
          <p:spPr>
            <a:xfrm>
              <a:off x="6553080" y="4572000"/>
              <a:ext cx="23623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plug equipment when not in us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520" y="32767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114800" y="2743200"/>
            <a:ext cx="3200400" cy="2380320"/>
            <a:chOff x="4114800" y="2743200"/>
            <a:chExt cx="3200400" cy="2380320"/>
          </a:xfrm>
        </p:grpSpPr>
        <p:sp>
          <p:nvSpPr>
            <p:cNvPr id="71" name=""/>
            <p:cNvSpPr/>
            <p:nvPr/>
          </p:nvSpPr>
          <p:spPr>
            <a:xfrm>
              <a:off x="4114800" y="4419720"/>
              <a:ext cx="32004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n’t place lab materials near the edge of the tab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95680" y="2743200"/>
              <a:ext cx="2133720" cy="1600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43200" y="2895480"/>
            <a:ext cx="3200400" cy="2685240"/>
            <a:chOff x="2743200" y="2895480"/>
            <a:chExt cx="3200400" cy="2685240"/>
          </a:xfrm>
        </p:grpSpPr>
        <p:sp>
          <p:nvSpPr>
            <p:cNvPr id="74" name=""/>
            <p:cNvSpPr/>
            <p:nvPr/>
          </p:nvSpPr>
          <p:spPr>
            <a:xfrm>
              <a:off x="2743200" y="4572000"/>
              <a:ext cx="320040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eep papers and other flammable objects away from flam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2895480"/>
              <a:ext cx="2133360" cy="1600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590920" y="838080"/>
            <a:ext cx="3276360" cy="1676520"/>
            <a:chOff x="2590920" y="838080"/>
            <a:chExt cx="3276360" cy="1676520"/>
          </a:xfrm>
        </p:grpSpPr>
        <p:sp>
          <p:nvSpPr>
            <p:cNvPr id="77" name=""/>
            <p:cNvSpPr/>
            <p:nvPr/>
          </p:nvSpPr>
          <p:spPr>
            <a:xfrm>
              <a:off x="2971800" y="838080"/>
              <a:ext cx="28954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n’t smell directly from a container - WAF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90920" y="137160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" dur="1" fill="hold"/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6T03:27:43Z</dcterms:modified>
  <cp:revision>30</cp:revision>
  <dc:subject/>
  <dc:title>Slide 1</dc:title>
</cp:coreProperties>
</file>