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4696-595E-4A4B-B0D5-2B3930B3C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3E9E-AF88-4FCB-96E7-55BB36F7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5C45-8C50-4E41-8994-E642A0AC6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2FD9-C32D-419E-ACF6-D2BB789EC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310A-1308-4685-A0F8-ACBAB7CB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267D-EAFE-466C-B407-AA877CD6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4B9A-B8EA-49E1-89D2-E6B0AD72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6F6D-66E7-44F9-B7D6-3A810BC4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E8FC-F297-4E0B-A95B-18205AE2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9DF6-D583-4560-BB94-89FA17FC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D9FA-D3CB-4785-B56F-A8BCF28D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6DB0-451D-429E-92A8-8840E2F7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F266-1361-4A9F-8947-FE9BA99C5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838080"/>
            <a:ext cx="784872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Cooper Black"/>
              </a:rPr>
              <a:t>What's Wrong?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/>
          <p:nvPr/>
        </p:nvSpPr>
        <p:spPr>
          <a:xfrm>
            <a:off x="3505320" y="50436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b Safety Challenge #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6477120"/>
            <a:ext cx="5562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09480" y="4114800"/>
            <a:ext cx="30481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90720"/>
            <a:ext cx="891540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’s wrong? Identify 9 different safet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cerns shown in the picture be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6477120"/>
            <a:ext cx="845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morrisonlabs.com/lab_safety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0" t="27628" r="51696" b="30453"/>
          <a:stretch/>
        </p:blipFill>
        <p:spPr>
          <a:xfrm>
            <a:off x="685800" y="1371600"/>
            <a:ext cx="784872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27628" r="51696" b="30453"/>
          <a:stretch/>
        </p:blipFill>
        <p:spPr>
          <a:xfrm>
            <a:off x="685800" y="1371600"/>
            <a:ext cx="7848720" cy="4251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320" y="151200"/>
            <a:ext cx="89154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6477120"/>
            <a:ext cx="845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morrisonlabs.com/lab_safety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28600" y="762120"/>
            <a:ext cx="2743200" cy="1904760"/>
            <a:chOff x="228600" y="762120"/>
            <a:chExt cx="2743200" cy="1904760"/>
          </a:xfrm>
        </p:grpSpPr>
        <p:sp>
          <p:nvSpPr>
            <p:cNvPr id="53" name=""/>
            <p:cNvSpPr/>
            <p:nvPr/>
          </p:nvSpPr>
          <p:spPr>
            <a:xfrm>
              <a:off x="228600" y="762120"/>
              <a:ext cx="2057400" cy="100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lways wear safety goggles during a lab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828800" y="1523880"/>
              <a:ext cx="1143000" cy="1143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04920" y="4267080"/>
            <a:ext cx="3124080" cy="2151720"/>
            <a:chOff x="304920" y="4267080"/>
            <a:chExt cx="3124080" cy="2151720"/>
          </a:xfrm>
        </p:grpSpPr>
        <p:sp>
          <p:nvSpPr>
            <p:cNvPr id="56" name=""/>
            <p:cNvSpPr/>
            <p:nvPr/>
          </p:nvSpPr>
          <p:spPr>
            <a:xfrm>
              <a:off x="304920" y="5410080"/>
              <a:ext cx="2057400" cy="100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n’t leave materials laying on the floor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8080" y="4267080"/>
              <a:ext cx="2590920" cy="1143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3657600" y="4419720"/>
            <a:ext cx="3124080" cy="1617840"/>
            <a:chOff x="3657600" y="4419720"/>
            <a:chExt cx="3124080" cy="1617840"/>
          </a:xfrm>
        </p:grpSpPr>
        <p:sp>
          <p:nvSpPr>
            <p:cNvPr id="59" name=""/>
            <p:cNvSpPr/>
            <p:nvPr/>
          </p:nvSpPr>
          <p:spPr>
            <a:xfrm>
              <a:off x="3657600" y="5638680"/>
              <a:ext cx="31240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lean up spills immediat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86200" y="4419720"/>
              <a:ext cx="2590920" cy="1143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505320" y="1066680"/>
            <a:ext cx="2133360" cy="1981440"/>
            <a:chOff x="3505320" y="1066680"/>
            <a:chExt cx="2133360" cy="1981440"/>
          </a:xfrm>
        </p:grpSpPr>
        <p:sp>
          <p:nvSpPr>
            <p:cNvPr id="62" name=""/>
            <p:cNvSpPr/>
            <p:nvPr/>
          </p:nvSpPr>
          <p:spPr>
            <a:xfrm>
              <a:off x="3581280" y="1066680"/>
              <a:ext cx="205740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n’t heat closed container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505320" y="1905120"/>
              <a:ext cx="1143000" cy="1143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181480" y="1066680"/>
            <a:ext cx="3048120" cy="2971800"/>
            <a:chOff x="5181480" y="1066680"/>
            <a:chExt cx="3048120" cy="2971800"/>
          </a:xfrm>
        </p:grpSpPr>
        <p:sp>
          <p:nvSpPr>
            <p:cNvPr id="65" name=""/>
            <p:cNvSpPr/>
            <p:nvPr/>
          </p:nvSpPr>
          <p:spPr>
            <a:xfrm>
              <a:off x="5943600" y="1066680"/>
              <a:ext cx="228600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eep your lab area neat and clean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181480" y="1828800"/>
              <a:ext cx="2438640" cy="2209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6553080" y="3276720"/>
            <a:ext cx="2362320" cy="1999080"/>
            <a:chOff x="6553080" y="3276720"/>
            <a:chExt cx="2362320" cy="1999080"/>
          </a:xfrm>
        </p:grpSpPr>
        <p:sp>
          <p:nvSpPr>
            <p:cNvPr id="68" name=""/>
            <p:cNvSpPr/>
            <p:nvPr/>
          </p:nvSpPr>
          <p:spPr>
            <a:xfrm>
              <a:off x="6553080" y="4572000"/>
              <a:ext cx="236232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nplug equipment when not in us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520" y="3276720"/>
              <a:ext cx="1143000" cy="1143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4114800" y="2743200"/>
            <a:ext cx="3200400" cy="2380320"/>
            <a:chOff x="4114800" y="2743200"/>
            <a:chExt cx="3200400" cy="2380320"/>
          </a:xfrm>
        </p:grpSpPr>
        <p:sp>
          <p:nvSpPr>
            <p:cNvPr id="71" name=""/>
            <p:cNvSpPr/>
            <p:nvPr/>
          </p:nvSpPr>
          <p:spPr>
            <a:xfrm>
              <a:off x="4114800" y="4419720"/>
              <a:ext cx="320040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n’t place lab materials near the edge of the tabl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95680" y="2743200"/>
              <a:ext cx="2133720" cy="1600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43200" y="2895480"/>
            <a:ext cx="3200400" cy="2685240"/>
            <a:chOff x="2743200" y="2895480"/>
            <a:chExt cx="3200400" cy="2685240"/>
          </a:xfrm>
        </p:grpSpPr>
        <p:sp>
          <p:nvSpPr>
            <p:cNvPr id="74" name=""/>
            <p:cNvSpPr/>
            <p:nvPr/>
          </p:nvSpPr>
          <p:spPr>
            <a:xfrm>
              <a:off x="2743200" y="4572000"/>
              <a:ext cx="3200400" cy="100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eep papers and other flammable objects away from flame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2895480"/>
              <a:ext cx="2133360" cy="1600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2590920" y="838080"/>
            <a:ext cx="3276360" cy="1676520"/>
            <a:chOff x="2590920" y="838080"/>
            <a:chExt cx="3276360" cy="1676520"/>
          </a:xfrm>
        </p:grpSpPr>
        <p:sp>
          <p:nvSpPr>
            <p:cNvPr id="77" name=""/>
            <p:cNvSpPr/>
            <p:nvPr/>
          </p:nvSpPr>
          <p:spPr>
            <a:xfrm>
              <a:off x="2971800" y="838080"/>
              <a:ext cx="289548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n’t smell directly from a container - WAFT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590920" y="1371600"/>
              <a:ext cx="1143000" cy="1143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9" dur="1" fill="hold"/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6T03:27:43Z</dcterms:modified>
  <cp:revision>30</cp:revision>
  <dc:subject/>
  <dc:title>Slide 1</dc:title>
</cp:coreProperties>
</file>