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0D5-5BB0-47A0-BD09-3BD84545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075-C7BA-44CF-8393-63E2F273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BFB-CD8A-4B91-9F94-C4F40076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615-4AFD-41C9-862E-840D9E38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919-FE6D-4FEC-809C-88E0BE6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A23-7FBD-43FF-B567-3B42FFC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199-2C54-4B14-97C6-1F303F59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99D-37C6-4F4A-8EC3-368101C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E857-7548-45D3-BB46-610DFABB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053-2380-45C7-9ACD-71A02BA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0E5-C8EC-406A-B0F3-D3B9A5F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7BF-8A4F-4022-AB95-5C68837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1ACC-42ED-4F52-A2DF-F9EEF1CCB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838080"/>
            <a:ext cx="784872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oper Black"/>
              </a:rPr>
              <a:t>What's Wrong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Safety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0481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90720"/>
            <a:ext cx="8915400" cy="8254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wrong? Identify 6 differ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 concerns shown in the picture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5943" r="34760" b="13096"/>
          <a:stretch/>
        </p:blipFill>
        <p:spPr>
          <a:xfrm>
            <a:off x="914400" y="944640"/>
            <a:ext cx="7238880" cy="560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51200"/>
            <a:ext cx="891540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5943" r="34760" b="13096"/>
          <a:stretch/>
        </p:blipFill>
        <p:spPr>
          <a:xfrm>
            <a:off x="914400" y="792000"/>
            <a:ext cx="7238880" cy="560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477120"/>
            <a:ext cx="84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http://morrisonlabs.com/lab_safet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81280" y="3124080"/>
            <a:ext cx="2514600" cy="1923120"/>
            <a:chOff x="3581280" y="3124080"/>
            <a:chExt cx="2514600" cy="1923120"/>
          </a:xfrm>
        </p:grpSpPr>
        <p:sp>
          <p:nvSpPr>
            <p:cNvPr id="53" name=""/>
            <p:cNvSpPr/>
            <p:nvPr/>
          </p:nvSpPr>
          <p:spPr>
            <a:xfrm>
              <a:off x="4495680" y="31240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343400"/>
              <a:ext cx="2514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eat or drink while in the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685800"/>
            <a:ext cx="3733920" cy="1295280"/>
            <a:chOff x="228600" y="685800"/>
            <a:chExt cx="3733920" cy="1295280"/>
          </a:xfrm>
        </p:grpSpPr>
        <p:sp>
          <p:nvSpPr>
            <p:cNvPr id="56" name=""/>
            <p:cNvSpPr/>
            <p:nvPr/>
          </p:nvSpPr>
          <p:spPr>
            <a:xfrm>
              <a:off x="228600" y="685800"/>
              <a:ext cx="20574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fool around during a lab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838080"/>
              <a:ext cx="18288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9920" y="1752480"/>
            <a:ext cx="2514600" cy="3599640"/>
            <a:chOff x="6019920" y="1752480"/>
            <a:chExt cx="2514600" cy="3599640"/>
          </a:xfrm>
        </p:grpSpPr>
        <p:sp>
          <p:nvSpPr>
            <p:cNvPr id="59" name=""/>
            <p:cNvSpPr/>
            <p:nvPr/>
          </p:nvSpPr>
          <p:spPr>
            <a:xfrm>
              <a:off x="6629400" y="3048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4343400"/>
              <a:ext cx="25146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wear safety goggles when doing an experi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52280" y="2057400"/>
            <a:ext cx="5867640" cy="2362320"/>
            <a:chOff x="152280" y="2057400"/>
            <a:chExt cx="5867640" cy="2362320"/>
          </a:xfrm>
        </p:grpSpPr>
        <p:sp>
          <p:nvSpPr>
            <p:cNvPr id="63" name=""/>
            <p:cNvSpPr/>
            <p:nvPr/>
          </p:nvSpPr>
          <p:spPr>
            <a:xfrm>
              <a:off x="152280" y="3124080"/>
              <a:ext cx="37339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ways point test tubes and other items away from yourself and others when heating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81080" y="2057400"/>
              <a:ext cx="7621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7800" y="3276720"/>
              <a:ext cx="7621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8600" y="4191120"/>
            <a:ext cx="4952880" cy="2304000"/>
            <a:chOff x="228600" y="4191120"/>
            <a:chExt cx="4952880" cy="2304000"/>
          </a:xfrm>
        </p:grpSpPr>
        <p:sp>
          <p:nvSpPr>
            <p:cNvPr id="67" name=""/>
            <p:cNvSpPr/>
            <p:nvPr/>
          </p:nvSpPr>
          <p:spPr>
            <a:xfrm>
              <a:off x="1600200" y="41911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486400"/>
              <a:ext cx="251460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eep hair and other flammable objects away from fla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5334120"/>
              <a:ext cx="25146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n’t leave a flame unattend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3:08:50Z</dcterms:modified>
  <cp:revision>26</cp:revision>
  <dc:subject/>
  <dc:title>Slide 1</dc:title>
</cp:coreProperties>
</file>