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208-B1E4-4A8B-A069-44894FFC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83F-A786-46F2-965C-9265C02F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C40-B227-411A-B3A0-9E7E8457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0F4-2081-4635-B2D1-6F949C0B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596-554C-4049-81D8-CE5A5240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B30-66A3-4C34-9339-FA066557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13E-453B-4AA7-AF66-BFA3F54C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233-A9E2-47F2-BC7C-F8B35B74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594-8E68-448D-A3AA-F0127B05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7ED-9CE3-4D3D-943F-672F8176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9B1-48C8-45A7-AD83-A54B162D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30F-88E3-465F-B9F9-772AA8C5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7034-2FFB-4805-8989-2215E0942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838080"/>
            <a:ext cx="784872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oper Black"/>
              </a:rPr>
              <a:t>What's Wrong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Safety 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6477120"/>
            <a:ext cx="55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30481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90720"/>
            <a:ext cx="8915400" cy="8254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’s wrong? Identify 6 differ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 concerns shown in the picture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5943" r="34760" b="13096"/>
          <a:stretch/>
        </p:blipFill>
        <p:spPr>
          <a:xfrm>
            <a:off x="914400" y="944640"/>
            <a:ext cx="7238880" cy="560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647712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orrisonlabs.com/lab_safe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51200"/>
            <a:ext cx="891540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5943" r="34760" b="13096"/>
          <a:stretch/>
        </p:blipFill>
        <p:spPr>
          <a:xfrm>
            <a:off x="914400" y="792000"/>
            <a:ext cx="7238880" cy="560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47712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orrisonlabs.com/lab_safe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81280" y="3124080"/>
            <a:ext cx="2514600" cy="1923120"/>
            <a:chOff x="3581280" y="3124080"/>
            <a:chExt cx="2514600" cy="1923120"/>
          </a:xfrm>
        </p:grpSpPr>
        <p:sp>
          <p:nvSpPr>
            <p:cNvPr id="53" name=""/>
            <p:cNvSpPr/>
            <p:nvPr/>
          </p:nvSpPr>
          <p:spPr>
            <a:xfrm>
              <a:off x="4495680" y="31240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343400"/>
              <a:ext cx="2514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eat or drink while in the la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685800"/>
            <a:ext cx="3733920" cy="1295280"/>
            <a:chOff x="228600" y="685800"/>
            <a:chExt cx="3733920" cy="1295280"/>
          </a:xfrm>
        </p:grpSpPr>
        <p:sp>
          <p:nvSpPr>
            <p:cNvPr id="56" name=""/>
            <p:cNvSpPr/>
            <p:nvPr/>
          </p:nvSpPr>
          <p:spPr>
            <a:xfrm>
              <a:off x="228600" y="685800"/>
              <a:ext cx="2057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fool around during a la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838080"/>
              <a:ext cx="18288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9920" y="1752480"/>
            <a:ext cx="2514600" cy="3599640"/>
            <a:chOff x="6019920" y="1752480"/>
            <a:chExt cx="2514600" cy="3599640"/>
          </a:xfrm>
        </p:grpSpPr>
        <p:sp>
          <p:nvSpPr>
            <p:cNvPr id="59" name=""/>
            <p:cNvSpPr/>
            <p:nvPr/>
          </p:nvSpPr>
          <p:spPr>
            <a:xfrm>
              <a:off x="6629400" y="30481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4343400"/>
              <a:ext cx="25146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ways wear safety goggles when doing an experi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0800" y="17524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52280" y="2057400"/>
            <a:ext cx="5867640" cy="2362320"/>
            <a:chOff x="152280" y="2057400"/>
            <a:chExt cx="5867640" cy="2362320"/>
          </a:xfrm>
        </p:grpSpPr>
        <p:sp>
          <p:nvSpPr>
            <p:cNvPr id="63" name=""/>
            <p:cNvSpPr/>
            <p:nvPr/>
          </p:nvSpPr>
          <p:spPr>
            <a:xfrm>
              <a:off x="152280" y="3124080"/>
              <a:ext cx="373392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ways point test tubes and other items away from yourself and others when heat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1080" y="2057400"/>
              <a:ext cx="7621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800" y="3276720"/>
              <a:ext cx="7621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8600" y="4191120"/>
            <a:ext cx="4952880" cy="2304000"/>
            <a:chOff x="228600" y="4191120"/>
            <a:chExt cx="4952880" cy="2304000"/>
          </a:xfrm>
        </p:grpSpPr>
        <p:sp>
          <p:nvSpPr>
            <p:cNvPr id="67" name=""/>
            <p:cNvSpPr/>
            <p:nvPr/>
          </p:nvSpPr>
          <p:spPr>
            <a:xfrm>
              <a:off x="1600200" y="41911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8600" y="5486400"/>
              <a:ext cx="25146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ep hair and other flammable objects away from fla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66880" y="5334120"/>
              <a:ext cx="2514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leave a flame unattend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3:08:50Z</dcterms:modified>
  <cp:revision>26</cp:revision>
  <dc:subject/>
  <dc:title>Slide 1</dc:title>
</cp:coreProperties>
</file>