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762-5040-4F18-B56F-C0B22BF9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0E8-4491-4E62-8092-67B7C5C9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B4B-CEFB-496F-9E1A-0855B61B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FCB-62C7-45F0-A45D-7E7AE67A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F88-FBC5-417C-B436-9880C3E2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BB7-22BD-4007-A49A-DC7D98FC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830-CF72-4496-B6C0-14A5D552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ACB-D810-4AAD-A4A8-E46F4D4A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69A-1CCA-4238-A298-6BBB8A75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59B-1955-4A99-8D2D-70778C1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EAF-253B-4678-97F8-26B088A6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910-9175-4313-9781-8B4CF5C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FF2E-59B1-4A38-A603-F8EC0339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30984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8380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What is it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Equipment 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6477120"/>
            <a:ext cx="55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68120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168120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1743120"/>
            <a:ext cx="166680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143160" y="1805040"/>
            <a:ext cx="1123920" cy="1419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name these i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6383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86400" y="28576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29600" y="16383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76720" y="4795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81480" y="4795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91320" y="4343400"/>
            <a:ext cx="380880" cy="1514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209680" y="4381560"/>
            <a:ext cx="1038240" cy="143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971800" y="28576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8120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95680" y="168120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934320" y="1743120"/>
            <a:ext cx="16668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43160" y="1805040"/>
            <a:ext cx="1123920" cy="141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80880" y="16383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86400" y="28576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29600" y="16383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76720" y="4795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480" y="4795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791320" y="4343400"/>
            <a:ext cx="380880" cy="1514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209680" y="4381560"/>
            <a:ext cx="1038240" cy="143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971800" y="28576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4290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nier Cali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58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58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33526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ar &amp; Pe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6095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2:37:05Z</dcterms:modified>
  <cp:revision>21</cp:revision>
  <dc:subject/>
  <dc:title>Slide 1</dc:title>
</cp:coreProperties>
</file>