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2F5-A6A8-49EA-9E09-B3E2BCB2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5D5-1817-482F-B6AB-724162B1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9CD-2CA1-47F7-8990-83904957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6B7-C8B4-430C-A7FE-1F385E9D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B4E-2F11-4A42-A1EC-19F0A3EF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303-C408-46E1-AA63-E41BBBC0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A81-527D-46EC-9C36-241DB0C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73A-3D2E-4723-966C-7FDD782D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C08-ED88-4907-BE14-91EA4EED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7CA-CF80-41D5-9A03-39C841C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C14-1579-4F7C-8C07-28305D5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246-29BE-48D6-A7B9-E5D1CC5A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A717-345A-4CDF-BBC5-C1768505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3098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8380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What is it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Equipment 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68120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95680" y="168120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934320" y="1743120"/>
            <a:ext cx="166680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143160" y="1805040"/>
            <a:ext cx="1123920" cy="1419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name these i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864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2960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7672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8148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791320" y="4343400"/>
            <a:ext cx="380880" cy="1514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209680" y="4381560"/>
            <a:ext cx="1038240" cy="143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9718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8120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95680" y="1681200"/>
            <a:ext cx="1667160" cy="1666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934320" y="1743120"/>
            <a:ext cx="16668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143160" y="1805040"/>
            <a:ext cx="1123920" cy="141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8088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864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29600" y="16383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7672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47959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791320" y="4343400"/>
            <a:ext cx="380880" cy="1514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209680" y="4381560"/>
            <a:ext cx="1038240" cy="143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971800" y="285768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4290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nier Cali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358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58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33526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ar &amp; Pe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6095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2:37:05Z</dcterms:modified>
  <cp:revision>21</cp:revision>
  <dc:subject/>
  <dc:title>Slide 1</dc:title>
</cp:coreProperties>
</file>