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374A-B31F-4CD3-B6C3-91B6D61E9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6AF7-54E3-491F-BBB3-DF47E00A5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9B82-5A11-4E35-9F20-2957EF410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837B-9224-4EEA-B6D8-E29887395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9AFB-587E-4891-A871-1F9CBF1D1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CF48-1C7C-4FB6-90C9-FBE2FA215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FBE9-14D8-408A-AC45-5033E24DE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ACAA-83FC-4A6B-B931-0021155FC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CC5E-21F2-4E39-9933-66FB7E370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C6BE-BC4D-41EE-9432-8E15F458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DF72-CCCD-4ED7-81EB-F40E8555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C551-D51B-4C0C-88FE-0A847647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7101D-4BA3-4BCD-A288-0AC012EB5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3276720"/>
            <a:ext cx="3309840" cy="3429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09480" y="838080"/>
            <a:ext cx="784872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oper Black"/>
              </a:rPr>
              <a:t>What is it?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oper Black"/>
              <a:ea typeface="Cooper Black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504360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b Equipment Challenge #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6477120"/>
            <a:ext cx="5562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553080" y="22860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320" y="303840"/>
            <a:ext cx="89154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n you name these item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229360" y="1676520"/>
            <a:ext cx="790560" cy="1123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400560" y="1523880"/>
            <a:ext cx="309600" cy="1747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2590920" y="4724280"/>
            <a:ext cx="2209680" cy="1443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7162920" y="1986120"/>
            <a:ext cx="1452600" cy="1747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457200" y="2209680"/>
            <a:ext cx="1914480" cy="1028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5715000" y="4419720"/>
            <a:ext cx="1623960" cy="1439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762120" y="2819520"/>
            <a:ext cx="380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971800" y="1828800"/>
            <a:ext cx="380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800600" y="1295280"/>
            <a:ext cx="380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7315200" y="2671920"/>
            <a:ext cx="380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438280" y="4114800"/>
            <a:ext cx="3812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553080" y="4114800"/>
            <a:ext cx="3812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6320" y="303840"/>
            <a:ext cx="89154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129528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iple-beam Bal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00600" y="31240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a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609588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fety Gog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486400" y="60958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le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4320" y="34290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 T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229360" y="1676520"/>
            <a:ext cx="790560" cy="1123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400560" y="1523880"/>
            <a:ext cx="309600" cy="17478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2590920" y="4724280"/>
            <a:ext cx="2209680" cy="1443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7162920" y="1986120"/>
            <a:ext cx="1452600" cy="17478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457200" y="2209680"/>
            <a:ext cx="1914480" cy="10288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5715000" y="4419720"/>
            <a:ext cx="1623960" cy="14396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762120" y="2819520"/>
            <a:ext cx="380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971800" y="1828800"/>
            <a:ext cx="380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800600" y="1295280"/>
            <a:ext cx="380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7315200" y="2671920"/>
            <a:ext cx="380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438280" y="4114800"/>
            <a:ext cx="3812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553080" y="4114800"/>
            <a:ext cx="3812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7" name=""/>
          <p:cNvSpPr/>
          <p:nvPr/>
        </p:nvSpPr>
        <p:spPr>
          <a:xfrm>
            <a:off x="2743200" y="30481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yedrop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315200" y="121932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duate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yli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 Trimpe</cp:lastModifiedBy>
  <dcterms:modified xsi:type="dcterms:W3CDTF">2008-06-06T02:36:45Z</dcterms:modified>
  <cp:revision>21</cp:revision>
  <dc:subject/>
  <dc:title>Slide 1</dc:title>
</cp:coreProperties>
</file>