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666-619C-486A-9999-0E07F99F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AC8-80C3-40F2-AC37-1288836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227-AF43-4938-AF65-4D92EF5F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4B0-4071-4A50-9F7B-A6C57C99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448-5C59-4CA8-9F6A-092FCFC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C81-72FA-4095-960E-425584AA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6E9-38A1-4A43-8FA2-D9F6930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403-09FF-4E6C-B0C9-29F9688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A68-42FA-4B2F-8F70-7DBB4929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CAC-BA71-41C6-8A55-3637556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61E-90E8-4D36-B142-277E55EB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004-A1BD-4532-BEA4-D887002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D186-43CF-4971-BD4C-73F243F4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309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8380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What is it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quipment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name these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29360" y="1676520"/>
            <a:ext cx="79056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00560" y="1523880"/>
            <a:ext cx="309600" cy="174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09680" cy="1443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162920" y="1986120"/>
            <a:ext cx="1452600" cy="174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9144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1623960" cy="143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62120" y="2819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1800" y="18288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00600" y="12952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15200" y="2671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530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ple-beam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fety Gog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29360" y="1676520"/>
            <a:ext cx="79056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00560" y="1523880"/>
            <a:ext cx="309600" cy="174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09680" cy="14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162920" y="1986120"/>
            <a:ext cx="1452600" cy="1747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9144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1623960" cy="143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62120" y="2819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71800" y="18288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0600" y="12952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15200" y="2671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30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048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r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1219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2:36:45Z</dcterms:modified>
  <cp:revision>21</cp:revision>
  <dc:subject/>
  <dc:title>Slide 1</dc:title>
</cp:coreProperties>
</file>