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9EE6-E6A1-4B72-81E6-5CB7918A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50B-EAA4-4CA6-8C83-44BDEF53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C5E-8AA4-469C-B34B-8EC38416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165-F620-4198-A713-51F09371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59A-A69E-4DFB-BDE6-7BDDC601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DFD-9FF4-440D-8A8E-0C582554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926-438A-463E-B0EE-3BE2E791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F68-2A2A-48A8-B052-7EEDD4E5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01D-B170-4353-98A4-301EF8F0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587-C998-4C91-B7B8-6D14B155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A12-C088-492E-AF62-FB7622BE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5B5-3823-41EC-B869-39C83E3B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A2AE-FD74-4156-BF1B-F9C1E75A7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odcast.nationalgeographic.com/~r/ng-video-shorts/~3/399943376/Sahara_Trees.mp4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1066680"/>
            <a:ext cx="80010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55a747"/>
                </a:solidFill>
                <a:latin typeface="Broadway"/>
              </a:rPr>
              <a:t>Tree Tal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55a747"/>
              </a:solidFill>
              <a:latin typeface="Broadway"/>
              <a:ea typeface="Broadway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05944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Geographic Podca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hara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4572000"/>
            <a:ext cx="187956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2041560"/>
            <a:ext cx="81532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How much rain does the Sahara Desert average in a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3 inches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6 inch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 fo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3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How many people live in the Sahara Dese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.5 mill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.5 million     C.  2.5 billion      D. 3.5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ich type of tree was planted to help stop the desert from moving into nearby citi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Adler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A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Asp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Ac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80880"/>
            <a:ext cx="990720" cy="932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81080" y="6094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movie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7800" y="2498760"/>
            <a:ext cx="1295280" cy="3808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7440" y="3870360"/>
            <a:ext cx="1676520" cy="3808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724280" y="2971800"/>
            <a:ext cx="3638520" cy="2955960"/>
            <a:chOff x="4724280" y="2971800"/>
            <a:chExt cx="3638520" cy="2955960"/>
          </a:xfrm>
        </p:grpSpPr>
        <p:sp>
          <p:nvSpPr>
            <p:cNvPr id="52" name=""/>
            <p:cNvSpPr/>
            <p:nvPr/>
          </p:nvSpPr>
          <p:spPr>
            <a:xfrm>
              <a:off x="5942160" y="5546880"/>
              <a:ext cx="1447560" cy="38088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4724280" y="2971800"/>
              <a:ext cx="3638520" cy="2455920"/>
              <a:chOff x="4724280" y="2971800"/>
              <a:chExt cx="3638520" cy="245592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4280" y="2971800"/>
                <a:ext cx="3638520" cy="242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4876920" y="5181480"/>
                <a:ext cx="335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ttp://capturedlightning.com/photos/Acacia1.jp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9-28T00:49:37Z</dcterms:modified>
  <cp:revision>112</cp:revision>
  <dc:subject/>
  <dc:title>Who am I?</dc:title>
</cp:coreProperties>
</file>