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D57-F334-448B-AABD-FB42F00C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3B0-6400-42DE-B5EF-36217D84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D59-B9C4-412C-946E-BBCDA0BD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7AD-1F3A-4403-952C-3F4F6AF3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839-3D1A-492D-81A9-00084A25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96D0-D4E3-4F25-A9ED-9D2348CD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572-0E1D-4828-B822-1F0E536A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81C3-B818-4F7C-9AEF-C6606CBC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935-36F6-4DC8-B214-A16C7B66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6CC-2920-40C9-B52B-09BA4DFE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292-5132-4DA4-A30E-B9BE3C98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FE8-9DFA-4BBA-9A5E-E2B14739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107E-F866-4CD3-9D76-A75295F83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odcast.nationalgeographic.com/~r/ng-video-shorts/~3/399943376/Sahara_Trees.mp4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1066680"/>
            <a:ext cx="80010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55a747"/>
                </a:solidFill>
                <a:latin typeface="Broadway"/>
              </a:rPr>
              <a:t>Tree Tal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55a747"/>
              </a:solidFill>
              <a:latin typeface="Broadway"/>
              <a:ea typeface="Broadway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05944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Geographic Podca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hara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4572000"/>
            <a:ext cx="187956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2041560"/>
            <a:ext cx="81532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How much rain does the Sahara Desert average in a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3 inches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6 inch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1 fo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3 f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How many people live in the Sahara Dese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1.5 mill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2.5 million     C.  2.5 billion      D. 3.5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ich type of tree was planted to help stop the desert from moving into nearby citi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Adler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A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Asp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Aca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80880"/>
            <a:ext cx="990720" cy="932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81080" y="6094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movie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7800" y="2498760"/>
            <a:ext cx="1295280" cy="3808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7440" y="3870360"/>
            <a:ext cx="1676520" cy="3808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724280" y="2971800"/>
            <a:ext cx="3638520" cy="2955960"/>
            <a:chOff x="4724280" y="2971800"/>
            <a:chExt cx="3638520" cy="2955960"/>
          </a:xfrm>
        </p:grpSpPr>
        <p:sp>
          <p:nvSpPr>
            <p:cNvPr id="52" name=""/>
            <p:cNvSpPr/>
            <p:nvPr/>
          </p:nvSpPr>
          <p:spPr>
            <a:xfrm>
              <a:off x="5942160" y="5546880"/>
              <a:ext cx="1447560" cy="38088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4724280" y="2971800"/>
              <a:ext cx="3638520" cy="2455920"/>
              <a:chOff x="4724280" y="2971800"/>
              <a:chExt cx="3638520" cy="245592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4280" y="2971800"/>
                <a:ext cx="3638520" cy="242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4876920" y="5181480"/>
                <a:ext cx="3352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ttp://capturedlightning.com/photos/Acacia1.jp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9-28T00:49:37Z</dcterms:modified>
  <cp:revision>112</cp:revision>
  <dc:subject/>
  <dc:title>Who am I?</dc:title>
</cp:coreProperties>
</file>