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B5F0-163B-4E9E-A0F3-1E57B2B7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A12D-BDEE-4ACA-B5C4-45A1A237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EE18-41FD-4247-BE69-6B5312E2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2ABD-7A20-4E53-9D84-C39A50D4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B1AD-177C-4CE5-B519-9F0D379A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8F8D-3035-4151-99FF-E8385EDC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66A3-1D6E-4920-BFBE-4C9A9622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A4AF-9367-40A9-B122-A142CF67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1A9C-EEB5-4070-BE0B-45DC6A7C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F5AC-B04F-4E3F-9218-805F82BA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30A2-41A0-4585-9CED-935A034F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0198-9A68-4D9D-BDD4-A194D7E9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0AB2-2DFF-4470-81B5-53E0A6ED0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762120" y="1219320"/>
            <a:ext cx="784836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Broadway"/>
              </a:rPr>
              <a:t>Trash Tale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Broadway"/>
              <a:ea typeface="Broadway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5"/>
          <p:cNvSpPr/>
          <p:nvPr/>
        </p:nvSpPr>
        <p:spPr>
          <a:xfrm>
            <a:off x="4572000" y="52578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BS Wired Science Podca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tsam 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6" descr="MCj03199300000[1]"/>
          <p:cNvPicPr/>
          <p:nvPr/>
        </p:nvPicPr>
        <p:blipFill>
          <a:blip r:embed="rId2"/>
          <a:stretch/>
        </p:blipFill>
        <p:spPr>
          <a:xfrm>
            <a:off x="533520" y="3691080"/>
            <a:ext cx="27432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304920" y="1600200"/>
            <a:ext cx="845820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How many pieces of plastic are floating in the ocean for every square mile of ocea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 36,000       B. 46,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C. 54,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64,000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Which of these is not a cause of ocean current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Wind    B. Earth’s rotation     C.  Gravitation of the moon     D. Boat traffic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did the oceanographer first use to study ocean currents?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oys        B.  Ocean Carriers         C. Plastic Toys           D. Sea Turtl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ere is the giant garbage patch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Gulf of Mexico   B. Atlantic Ocean    C. Pacific Oce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. Artic Oc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Cj04260680000[1]"/>
          <p:cNvPicPr/>
          <p:nvPr/>
        </p:nvPicPr>
        <p:blipFill>
          <a:blip r:embed="rId1"/>
          <a:stretch/>
        </p:blipFill>
        <p:spPr>
          <a:xfrm>
            <a:off x="457200" y="457200"/>
            <a:ext cx="990720" cy="9320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1600200" y="533520"/>
            <a:ext cx="716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 the movie and then answer the questions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deo Link: http://www.pbs.org/kcet/wiredscience/rss/media/wirs102_it03_flotsom_480.m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8"/>
          <p:cNvSpPr/>
          <p:nvPr/>
        </p:nvSpPr>
        <p:spPr>
          <a:xfrm>
            <a:off x="304920" y="1600200"/>
            <a:ext cx="845820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How many pieces of plastic are floating in the ocean for every square mile of ocea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 36,000       B. 46,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C. 54,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64,000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Which of these is not a cause of ocean current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Wind    B. Earth’s rotation     C.  Gravitation of the moon     D. Boat traffic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did the oceanographer first use to study ocean currents?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oys        B.  Ocean Carriers         C. Plastic Toys           D. Sea Turtl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ere is the giant garbage patch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Gulf of Mexico   B. Atlantic Ocean    C. Pacific Oce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. Artic Oc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8600" y="6094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171880" y="2209680"/>
            <a:ext cx="1143000" cy="38124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7086600" y="3276720"/>
            <a:ext cx="1676520" cy="38088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584600" y="4356000"/>
            <a:ext cx="1676520" cy="38124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813200" y="5410080"/>
            <a:ext cx="1892520" cy="38124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</cp:lastModifiedBy>
  <dcterms:modified xsi:type="dcterms:W3CDTF">2010-09-13T15:53:48Z</dcterms:modified>
  <cp:revision>108</cp:revision>
  <dc:subject/>
  <dc:title>Who am I?</dc:title>
</cp:coreProperties>
</file>