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D91-0BE0-419D-A4AD-DCF49F02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F991-7C51-4725-8C29-8AEA8658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EDF-53D3-4BB9-89A5-DEA43D24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9B2-F9FE-478B-B634-D95E331A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899-B705-425B-B612-7A3C4599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3BC-E1F7-4A74-B34F-6D7DBC30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171-3CC1-46DB-B547-14BCBAB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3D9-D392-4DCC-BBC1-937F123A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593-0BDF-44CF-97E5-13F3F893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85F-CC81-4A56-943F-1AC2124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13E-154D-4FE8-A53D-B59E9479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DA8-F2A0-4D5B-871B-995D2249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8851-0CD8-4E1C-97D7-CCDB89791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0"/>
          <p:cNvSpPr txBox="1"/>
          <p:nvPr/>
        </p:nvSpPr>
        <p:spPr>
          <a:xfrm>
            <a:off x="762120" y="1219320"/>
            <a:ext cx="78483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Broadway"/>
              </a:rPr>
              <a:t>Trash Tales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Broadway"/>
              <a:ea typeface="Broadway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scistartlogo2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5"/>
          <p:cNvSpPr/>
          <p:nvPr/>
        </p:nvSpPr>
        <p:spPr>
          <a:xfrm>
            <a:off x="4572000" y="52578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 Wired Science Podca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tsam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6" descr="MCj03199300000[1]"/>
          <p:cNvPicPr/>
          <p:nvPr/>
        </p:nvPicPr>
        <p:blipFill>
          <a:blip r:embed="rId2"/>
          <a:stretch/>
        </p:blipFill>
        <p:spPr>
          <a:xfrm>
            <a:off x="533520" y="3691080"/>
            <a:ext cx="2743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04920" y="1600200"/>
            <a:ext cx="84582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any pieces of plastic are floating in the ocean for every square mile of ocea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36,000       B. 46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. 54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64,00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ich of these is not a cause of ocean curren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nd    B. Earth’s rotation     C.  Gravitation of the moon     D. Boat traffic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id the oceanographer first use to study ocean current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ys        B.  Ocean Carriers         C. Plastic Toys           D. Sea Turtl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ere is the giant garbage patch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Gulf of Mexico   B. Atlantic Ocean    C. Pacific Oc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. Ar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Cj04260680000[1]"/>
          <p:cNvPicPr/>
          <p:nvPr/>
        </p:nvPicPr>
        <p:blipFill>
          <a:blip r:embed="rId1"/>
          <a:stretch/>
        </p:blipFill>
        <p:spPr>
          <a:xfrm>
            <a:off x="457200" y="457200"/>
            <a:ext cx="990720" cy="9320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600200" y="5335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the movie and then answer the questions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deo Link: http://www.pbs.org/kcet/wiredscience/rss/media/wirs102_it03_flotsom_480.m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304920" y="1600200"/>
            <a:ext cx="84582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How many pieces of plastic are floating in the ocean for every square mile of ocea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36,000       B. 46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C. 54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64,00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Which of these is not a cause of ocean current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Wind    B. Earth’s rotation     C.  Gravitation of the moon     D. Boat traffic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at did the oceanographer first use to study ocean currents?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ys        B.  Ocean Carriers         C. Plastic Toys           D. Sea Turtl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ere is the giant garbage patch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Gulf of Mexico   B. Atlantic Ocean    C. Pacific Oce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. Ar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8600" y="6094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71880" y="2209680"/>
            <a:ext cx="114300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086600" y="3276720"/>
            <a:ext cx="167652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584600" y="4356000"/>
            <a:ext cx="167652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813200" y="5410080"/>
            <a:ext cx="1892520" cy="3812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</cp:lastModifiedBy>
  <dcterms:modified xsi:type="dcterms:W3CDTF">2010-09-13T15:53:48Z</dcterms:modified>
  <cp:revision>108</cp:revision>
  <dc:subject/>
  <dc:title>Who am I?</dc:title>
</cp:coreProperties>
</file>