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A26F-FBB5-42D4-9FA1-B7487B02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3BD-3284-4F04-956F-B0C5EF49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3948-696E-4080-83F1-FCC946D5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E7FC-746D-401C-8086-F878CC71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45CE-E57C-485C-AFE0-62D3DA00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38D7-F404-4298-A6CD-E6C283C9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C54F-1779-4234-B16B-9D7BEB35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380-73A0-48C7-98FD-0AAA913B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D182-E756-468F-A3D8-6F4F00E9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6B4F-51F9-4854-A735-D4F7181D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549-EF26-49EB-AC77-54EE7195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B2A5-30BB-4281-8899-6C248661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C9E0-5E04-4330-8279-993BA947A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533520" y="1066680"/>
            <a:ext cx="80010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Broadway"/>
              </a:rPr>
              <a:t>Footprin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Broadway"/>
              <a:ea typeface="Broadway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5"/>
          <p:cNvSpPr/>
          <p:nvPr/>
        </p:nvSpPr>
        <p:spPr>
          <a:xfrm>
            <a:off x="3200400" y="505944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ional Geograph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sh Footprint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0" descr="MCj04160140000[1]"/>
          <p:cNvPicPr/>
          <p:nvPr/>
        </p:nvPicPr>
        <p:blipFill>
          <a:blip r:embed="rId2"/>
          <a:stretch/>
        </p:blipFill>
        <p:spPr>
          <a:xfrm>
            <a:off x="990720" y="4419720"/>
            <a:ext cx="185400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57200" y="1523880"/>
            <a:ext cx="838188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How much waste does each of us send to landfills in a lifetim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64 to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6,400 to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 64,000 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How many plastic bottles are thrown away every day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6,0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60,0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6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 How many Empire State buildings would equal the amount of glass we throw away each year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3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3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material makes up most of the packaging used for our food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Cardboar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Meta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P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371600" y="457200"/>
            <a:ext cx="7620120" cy="612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video and then answer the questions.</a:t>
            </a:r>
            <a:br>
              <a:rPr sz="12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ideo Link: http://channel.nationalgeographic.com/channel/videos/player.html?channel=22826&amp;category=22818&amp;title=05187_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7" descr="j0426068"/>
          <p:cNvPicPr/>
          <p:nvPr/>
        </p:nvPicPr>
        <p:blipFill>
          <a:blip r:embed="rId1"/>
          <a:stretch/>
        </p:blipFill>
        <p:spPr>
          <a:xfrm>
            <a:off x="228600" y="304920"/>
            <a:ext cx="106668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0"/>
          <p:cNvSpPr/>
          <p:nvPr/>
        </p:nvSpPr>
        <p:spPr>
          <a:xfrm>
            <a:off x="457200" y="1523880"/>
            <a:ext cx="838188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How much waste does each of us send to landfills in a lifetim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64 to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6,400 to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 64,000 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How many plastic bottles do we throw away every day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6,0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60,0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6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 How many Empire State buildings would equal the amount of glass we throw away each year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3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3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material makes up most of the packaging used for our food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Cardboar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Meta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P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457200" y="1871640"/>
            <a:ext cx="129528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5943600" y="3102120"/>
            <a:ext cx="160020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457200" y="4648320"/>
            <a:ext cx="76212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5943600" y="5845320"/>
            <a:ext cx="121932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</cp:lastModifiedBy>
  <dcterms:modified xsi:type="dcterms:W3CDTF">2010-09-13T15:43:07Z</dcterms:modified>
  <cp:revision>130</cp:revision>
  <dc:subject/>
  <dc:title>Who am I?</dc:title>
</cp:coreProperties>
</file>