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F582-2D2B-48C9-86EE-83AC69D23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35F2-7C46-4BBF-971D-0990806C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AD87-13B9-4F04-A0AE-99CF8DD4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D934-603E-4E1E-B27D-1289D1E3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F797-CB91-4D1F-8E10-850B1C73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A384-5B65-4679-B2F7-4AE1D2F9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3C63-7BD6-4137-9E4A-A4CAE779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1090-54EA-4428-A8F7-B1076EF1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6613-8A95-4BEC-8DEF-BDA113E3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14AF-0DC6-4253-8EB3-C4478AAC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C2F0-2B1A-4B55-A0E6-44A9299B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4E0E-D3E2-42E5-AA4B-A4591ED7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D662-6563-414B-81D6-3C68F6836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0"/>
          <p:cNvSpPr txBox="1"/>
          <p:nvPr/>
        </p:nvSpPr>
        <p:spPr>
          <a:xfrm>
            <a:off x="533520" y="1066680"/>
            <a:ext cx="80010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Broadway"/>
              </a:rPr>
              <a:t>Footprint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Broadway"/>
              <a:ea typeface="Broadway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5"/>
          <p:cNvSpPr/>
          <p:nvPr/>
        </p:nvSpPr>
        <p:spPr>
          <a:xfrm>
            <a:off x="3200400" y="505944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ional Geograph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sh Footprint 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0" descr="MCj04160140000[1]"/>
          <p:cNvPicPr/>
          <p:nvPr/>
        </p:nvPicPr>
        <p:blipFill>
          <a:blip r:embed="rId2"/>
          <a:stretch/>
        </p:blipFill>
        <p:spPr>
          <a:xfrm>
            <a:off x="990720" y="4419720"/>
            <a:ext cx="185400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457200" y="1523880"/>
            <a:ext cx="838188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 How much waste does each of us send to landfills in a lifetim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64 to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6,400 to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 64,000 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How many plastic bottles are thrown away every day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6,0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60,0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6,0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 How many Empire State buildings would equal the amount of glass we throw away each year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3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3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at material makes up most of the packaging used for our food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Cardboar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Meta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P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371600" y="457200"/>
            <a:ext cx="7620120" cy="612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ch the video and then answer the questions.</a:t>
            </a:r>
            <a:br>
              <a:rPr sz="12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ideo Link: http://channel.nationalgeographic.com/channel/videos/player.html?channel=22826&amp;category=22818&amp;title=05187_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7" descr="j0426068"/>
          <p:cNvPicPr/>
          <p:nvPr/>
        </p:nvPicPr>
        <p:blipFill>
          <a:blip r:embed="rId1"/>
          <a:stretch/>
        </p:blipFill>
        <p:spPr>
          <a:xfrm>
            <a:off x="228600" y="304920"/>
            <a:ext cx="106668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0"/>
          <p:cNvSpPr/>
          <p:nvPr/>
        </p:nvSpPr>
        <p:spPr>
          <a:xfrm>
            <a:off x="457200" y="1523880"/>
            <a:ext cx="838188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 How much waste does each of us send to landfills in a lifetim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64 to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6,400 to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 64,000 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How many plastic bottles do we throw away every day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6,0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60,0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6,0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 How many Empire State buildings would equal the amount of glass we throw away each year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3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3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at material makes up most of the packaging used for our food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Cardboar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Meta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P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28600" y="609480"/>
            <a:ext cx="845820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457200" y="1871640"/>
            <a:ext cx="129528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5943600" y="3102120"/>
            <a:ext cx="160020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457200" y="4648320"/>
            <a:ext cx="76212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5943600" y="5845320"/>
            <a:ext cx="121932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</cp:lastModifiedBy>
  <dcterms:modified xsi:type="dcterms:W3CDTF">2010-09-13T15:43:07Z</dcterms:modified>
  <cp:revision>130</cp:revision>
  <dc:subject/>
  <dc:title>Who am I?</dc:title>
</cp:coreProperties>
</file>