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4AD-D2A6-429F-A7A2-70B0ECBB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94E-44A7-485E-8BE8-4414B9BB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5E6-A1B5-4DCC-A838-9DD9C49F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16F-93F4-4BAF-8BFC-145D6317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092-1681-450B-88DE-80160B47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03A-B460-4DC1-8683-8C45F9FB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73A-EC73-4D95-84BF-E6141946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B4D-CE18-40DE-A209-F9F4965C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043-8FAF-469C-9633-C78865E2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6C9-40E8-4B36-8C94-7D357A3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533-C27D-4C83-8912-E2D7032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CFD-D1B3-4579-9A08-CA05E703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F9F991F1-5A31-4E31-8298-80C5B3A4D278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5105520"/>
            <a:ext cx="9707400" cy="26064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identify these invasive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lleng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8380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Alien Invad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543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410680" y="200160"/>
            <a:ext cx="23810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0120" y="41911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3000240" cy="21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62520" y="12193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3485" r="0" b="9566"/>
          <a:stretch/>
        </p:blipFill>
        <p:spPr>
          <a:xfrm>
            <a:off x="4038480" y="4648320"/>
            <a:ext cx="3000600" cy="190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45720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490920" y="7802640"/>
            <a:ext cx="39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vasivespeciesinfo.gov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8195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row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found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I feed on native birds and liza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90920" y="20574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26956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8487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47680"/>
            <a:ext cx="3962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of th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aders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5638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5530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found in the Southeastern US and can attack and cause painfu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u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ings on humans, animals, &amp; livest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345744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n’t taste lik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arl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ust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ut like to crowd out native species and take ov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7120" y="4800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673416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like to g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ut” on native plants and crops causing much da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77200" y="28954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ay have stripes li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zeb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ut I live in water and compete with na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usse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f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287000" y="56008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597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ay look li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ut I’m a fish that preys on native species.  I’m also found in more places than jus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rthe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24768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4574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lic Must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0120" y="41911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3000240" cy="21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62520" y="12193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rcRect l="0" t="3485" r="0" b="9566"/>
          <a:stretch/>
        </p:blipFill>
        <p:spPr>
          <a:xfrm>
            <a:off x="4038480" y="4648320"/>
            <a:ext cx="3000600" cy="190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28600" y="45720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"/>
          <p:cNvSpPr txBox="1"/>
          <p:nvPr/>
        </p:nvSpPr>
        <p:spPr>
          <a:xfrm>
            <a:off x="2590920" y="20574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487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5638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77120" y="4800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287000" y="56008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28600" y="41911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8" name=""/>
          <p:cNvSpPr txBox="1"/>
          <p:nvPr/>
        </p:nvSpPr>
        <p:spPr>
          <a:xfrm>
            <a:off x="685800" y="5791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wn Tree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629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Fire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6705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d Bo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2971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bra Mu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6553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ern Snak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54:35Z</dcterms:modified>
  <cp:revision>136</cp:revision>
  <dc:subject/>
  <dc:title>Who am I?</dc:title>
</cp:coreProperties>
</file>