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D31-79EB-44B1-B213-9DD85550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F88-F8B2-4F4B-87B1-7A097D29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B78-FC86-4199-8FDD-6BF26DD5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D9B-C260-4CED-A8A5-C30772A3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502-3199-4E4D-8EC4-C82B21D2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2F9-83A5-4CE7-AB3D-1173FC53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FC3-8405-478E-B161-7EE1F714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D1B-F2A0-4304-A6FB-2798B088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8202-3A56-48FB-B40E-82BB5155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C56-E73E-41EF-927B-1587C04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1B4-7AEA-42C9-8DBE-CBFAD83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D73-B76C-4A7D-99EB-43A629B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4CD7A16B-B551-468E-8F3D-C8937E3A42FB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5105520"/>
            <a:ext cx="9707400" cy="2606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 you identify these invasiv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llenge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8380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Alien Inva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7543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10680" y="200160"/>
            <a:ext cx="23810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3000240" cy="21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3485" r="0" b="9566"/>
          <a:stretch/>
        </p:blipFill>
        <p:spPr>
          <a:xfrm>
            <a:off x="4038480" y="4648320"/>
            <a:ext cx="3000600" cy="190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28600" y="45720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3490920" y="7802640"/>
            <a:ext cx="39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vasivespeciesinfo.gov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819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r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foun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e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I feed on native birds and lizar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90920" y="20574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26956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487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47680"/>
            <a:ext cx="3962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of th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aders can you identif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5638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55308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am found in the Southeastern US and can attack and cause painfu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u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ings on humans, animals, &amp; livest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345744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n’t taste lik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arl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sta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ut like to crowd out native species and take o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7120" y="4800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673416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like to g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i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ut” on native plants and crops causing much da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77200" y="2895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y have stripes li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zebr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ut I live in water and compete with nati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usse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f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287000" y="5600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5977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y look li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nak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ut I’m a fish that preys on native species.  I’m also found in more places than just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rthe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24768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34574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lic Must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43800" y="609480"/>
            <a:ext cx="3000240" cy="219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962520" y="12193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rcRect l="0" t="3485" r="0" b="9566"/>
          <a:stretch/>
        </p:blipFill>
        <p:spPr>
          <a:xfrm>
            <a:off x="4038480" y="4648320"/>
            <a:ext cx="3000600" cy="190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8600" y="45720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2590920" y="20574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6858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5638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77120" y="4800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287000" y="56008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28600" y="4191120"/>
            <a:ext cx="3000240" cy="219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8" name=""/>
          <p:cNvSpPr txBox="1"/>
          <p:nvPr/>
        </p:nvSpPr>
        <p:spPr>
          <a:xfrm>
            <a:off x="685800" y="5791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wn Tree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629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Fire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6705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d B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2971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bra Mus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6553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ern Snak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54:35Z</dcterms:modified>
  <cp:revision>136</cp:revision>
  <dc:subject/>
  <dc:title>Who am I?</dc:title>
</cp:coreProperties>
</file>