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1D6E-A15A-4A35-8316-24901B5E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900C-38A5-4D2B-83B0-4AD51ED4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1A18-598A-45D1-93B6-3E19F46A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4535-0043-469D-9BE2-120238E7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2C57-CF13-42C7-9BBB-4DA5BD6D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455-6296-47F4-8D73-89A93899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BBE7-8DFC-422C-A4F0-CE17259E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6478-B790-41D4-A0A6-BB8F295E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2C6F-C116-4612-A37F-E9403C78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46B7-8703-40F2-87C8-73919090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507F-BF7C-4C65-A93E-912EC1BA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0CF6-D006-438B-9865-3DEC4E1D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279DCEEB-C578-4373-8AB6-F3A701C412F2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61760" y="5105520"/>
            <a:ext cx="9707400" cy="26064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Can you identify these invasive spec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Challenge #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838080"/>
            <a:ext cx="10211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Cooper Black"/>
              </a:rPr>
              <a:t>Alien Invader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75438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410680" y="200160"/>
            <a:ext cx="23810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8928" t="19048" r="7147" b="21433"/>
          <a:stretch/>
        </p:blipFill>
        <p:spPr>
          <a:xfrm>
            <a:off x="7467480" y="4419720"/>
            <a:ext cx="3353040" cy="1782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96080" y="533520"/>
            <a:ext cx="3000600" cy="2190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986280" y="1219320"/>
            <a:ext cx="3000240" cy="2190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04920" y="609480"/>
            <a:ext cx="3000240" cy="2190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490920" y="7802640"/>
            <a:ext cx="39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vasivespeciesinfo.gov/animals/main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8195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am found in Florida and Hawaii. I was introduced to deal with suga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e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7621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477120" y="13716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8487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2476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of the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aders can you identif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80880" y="4191120"/>
            <a:ext cx="3000600" cy="2190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533520" y="43434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655308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am found in Hawaii, but am also imported for pets. I am native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fric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5744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was imported for silk production, but damage trees through the eastern US. I like to “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itchhik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on vehi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4038480" y="4800600"/>
            <a:ext cx="3000600" cy="2190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267080" y="49528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7086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am not a “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arl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as I compete with native birds and destroy cro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289548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am a borer that infests and kill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s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rees in the central US. I am known for m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eral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reen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20120" y="44956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7391520" y="64753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am a “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bighead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fish that eats a lot of plankton and competes with native speci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62080" y="2367000"/>
            <a:ext cx="2209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e T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6019920"/>
            <a:ext cx="2895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ant African Sn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2971800"/>
            <a:ext cx="251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ypsy M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6629400"/>
            <a:ext cx="2438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43800" y="2362320"/>
            <a:ext cx="2895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erald Ash B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5867280"/>
            <a:ext cx="2590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ghead C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10-26T19:54:11Z</dcterms:modified>
  <cp:revision>129</cp:revision>
  <dc:subject/>
  <dc:title>Who am I?</dc:title>
</cp:coreProperties>
</file>