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9728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7F5D-3DE5-486C-98E9-1D047ECE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AB83-DBF0-4033-ADB5-1DB5A0FE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2AC7-AB79-4501-82C8-5C238E2DA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659F-4D6B-4AE6-A672-6354E0620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43D3-1866-4548-BF58-514B4AC5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D0EE-0923-4475-94CF-58FABC27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2CE7-A930-4FB3-9B38-3B565A23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D669-CF6A-4790-BFA1-6DB0BA28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330120"/>
            <a:ext cx="9874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EF8E-5406-43AC-B7E7-1F77E7FE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6F74-82D7-431A-92AF-E473415F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4D77-4B47-4C88-9CBC-D1578348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BFAD-4022-482D-8A81-8D63BC00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marL="411120" indent="-41112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27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46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920960" indent="-27468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7494480"/>
            <a:ext cx="34732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fld id="{63903987-57B9-4709-B2DF-5429ACBC0032}" type="slidenum">
              <a:rPr b="0" lang="en-US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61760" y="5105520"/>
            <a:ext cx="9707400" cy="26064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Can you identify these invasive spec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Challenge #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838080"/>
            <a:ext cx="10211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Cooper Black"/>
              </a:rPr>
              <a:t>Alien Invaders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75438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410680" y="200160"/>
            <a:ext cx="23810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8928" t="19048" r="7147" b="21433"/>
          <a:stretch/>
        </p:blipFill>
        <p:spPr>
          <a:xfrm>
            <a:off x="7467480" y="4419720"/>
            <a:ext cx="3353040" cy="1782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696080" y="533520"/>
            <a:ext cx="3000600" cy="2190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986280" y="1219320"/>
            <a:ext cx="3000240" cy="2190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04920" y="609480"/>
            <a:ext cx="3000240" cy="2190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490920" y="7802640"/>
            <a:ext cx="390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invasivespeciesinfo.gov/animals/main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281952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am found in Florida and Hawaii. I was introduced to deal with suga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es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7621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477120" y="13716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8487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24768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of thes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aders can you identif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380880" y="4191120"/>
            <a:ext cx="3000600" cy="2190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533520" y="43434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6553080"/>
            <a:ext cx="30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am found in Hawaii, but am also imported for pets. I am native t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fric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5744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was imported for silk production, but damage trees through the eastern US. I like to “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hitchhik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on vehi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4038480" y="4800600"/>
            <a:ext cx="3000600" cy="2190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267080" y="49528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70866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am not a “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arl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as I compete with native birds and destroy cro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91520" y="289548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am a borer that infests and kill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s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rees in the central US. I am known for m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meral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green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620120" y="44956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4" name=""/>
          <p:cNvSpPr/>
          <p:nvPr/>
        </p:nvSpPr>
        <p:spPr>
          <a:xfrm>
            <a:off x="7391520" y="64753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am a “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bighead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fish that eats a lot of plankton and competes with native speci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62080" y="2367000"/>
            <a:ext cx="2209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e T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6019920"/>
            <a:ext cx="2895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iant African Sn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86200" y="2971800"/>
            <a:ext cx="251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ypsy M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6629400"/>
            <a:ext cx="2438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43800" y="2362320"/>
            <a:ext cx="2895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erald Ash Bo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5867280"/>
            <a:ext cx="2590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ghead Ca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10-26T19:54:11Z</dcterms:modified>
  <cp:revision>129</cp:revision>
  <dc:subject/>
  <dc:title>Who am I?</dc:title>
</cp:coreProperties>
</file>