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CAD-7017-4DC1-B4D5-29655214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240-1AEC-4A88-A592-E7E4B93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6E8-B649-4FCD-B8A7-D69445EE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D27-A43E-4278-AD76-431C0DC9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463-AA33-4EBD-9F65-5D65D8A2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16D-78F8-4341-A75D-9EC741F6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BF6-4867-4AEF-8E6B-B6CBECD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8C9-17C6-4896-B1D9-289029B4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98C-8D14-4BB9-AF68-75FA83D8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C23-7AC1-4569-9AB3-07E7DD68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868-2C33-47AA-90DF-B3A3AEB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5EA-1DE3-4D0A-A347-80237D64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619-F0AF-421C-B0FA-B9511C5F7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76244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8195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Food Web Basic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63882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os.org/oceans/graphics/life/foodchai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816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248520" y="990720"/>
            <a:ext cx="1752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#3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543480" cy="2396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763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wer these questions about food we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provides the energy for all the earth’s food web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Classify each organism as a producer (P), consumer (C), or decomposer (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Gr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Zooplank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In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Haw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Bac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Phytoplan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Where is the most energy available in the ener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second-level consumer in the ener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647712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learner.org/channel/courses/essential/life/images/show7.food_pyrami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3505320"/>
            <a:ext cx="3543480" cy="239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304920"/>
            <a:ext cx="8763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What provides the energy for all the earth’s food web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Classify each organism as a producer (P), consumer (C), or decomposer (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Gr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Zooplank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In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Haw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Bac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 Phytoplank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Where is the most energy available in the energ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What is the second-level consumer in the ener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 dia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477120"/>
            <a:ext cx="632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http://www.learner.org/channel/courses/essential/life/images/show7.food_pyrami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762120"/>
            <a:ext cx="106704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20685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1080" y="2525760"/>
            <a:ext cx="60984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25257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8520" y="25257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08520" y="20685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72240" y="2068560"/>
            <a:ext cx="60948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3962520"/>
            <a:ext cx="3048120" cy="398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tom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09680" y="4724280"/>
            <a:ext cx="4191120" cy="932400"/>
            <a:chOff x="2209680" y="4724280"/>
            <a:chExt cx="4191120" cy="932400"/>
          </a:xfrm>
        </p:grpSpPr>
        <p:sp>
          <p:nvSpPr>
            <p:cNvPr id="62" name=""/>
            <p:cNvSpPr/>
            <p:nvPr/>
          </p:nvSpPr>
          <p:spPr>
            <a:xfrm>
              <a:off x="2209680" y="5257800"/>
              <a:ext cx="3048120" cy="3988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mall f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81480" y="4724280"/>
              <a:ext cx="12193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19:16:33Z</dcterms:modified>
  <cp:revision>35</cp:revision>
  <dc:subject/>
  <dc:title>Slide 1</dc:title>
</cp:coreProperties>
</file>