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BD2-A50E-4509-B61D-F4AE07EA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373-B4D4-4D45-A504-26705A41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768-E901-4E27-BAE6-D2BABE4B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373-CC0F-4FB0-9FFC-F2F6E103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214-6FDF-4F4D-8F19-1287BF50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BF4-3B49-4360-8A1B-4664E928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5B2-4827-4AFC-B516-55AFD1C8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144-6F6C-4D78-9C43-4D8B299C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626-D782-4A7A-AB80-F712DD5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A9C-DF7B-4760-AA6F-F3E5C335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FE6-56B0-44EA-904F-8C9C87E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BE9-2676-4CEF-BF01-A28DAF3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2E72-6DD1-4DE7-BF93-3D9133940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762440" cy="409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281952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Food Web Basic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63882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mos.org/oceans/graphics/life/foodchai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816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248520" y="990720"/>
            <a:ext cx="1752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#3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543480" cy="239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87631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these questions about food we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provides the energy for all the earth’s food web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Classify each organism as a producer (P), consumer (C), or decomposer (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Gr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Zooplank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In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Haw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Bacter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Phytoplank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Where is the most energy available in the energ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is the second-level consumer in the ener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647712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learner.org/channel/courses/essential/life/images/show7.food_pyrami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543480" cy="239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304920"/>
            <a:ext cx="87631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provides the energy for all the earth’s food web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Classify each organism as a producer (P), consumer (C), or decomposer (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Gr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Zooplank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In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Haw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Bacter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Phytoplank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Where is the most energy available in the energ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is the second-level consumer in the ener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47712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learner.org/channel/courses/essential/life/images/show7.food_pyrami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762120"/>
            <a:ext cx="106704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20685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1080" y="2525760"/>
            <a:ext cx="60984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25257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08520" y="25257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08520" y="20685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72240" y="20685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3962520"/>
            <a:ext cx="304812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to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09680" y="4724280"/>
            <a:ext cx="4191120" cy="932400"/>
            <a:chOff x="2209680" y="4724280"/>
            <a:chExt cx="4191120" cy="932400"/>
          </a:xfrm>
        </p:grpSpPr>
        <p:sp>
          <p:nvSpPr>
            <p:cNvPr id="62" name=""/>
            <p:cNvSpPr/>
            <p:nvPr/>
          </p:nvSpPr>
          <p:spPr>
            <a:xfrm>
              <a:off x="2209680" y="5257800"/>
              <a:ext cx="3048120" cy="3988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mall f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181480" y="4724280"/>
              <a:ext cx="12193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19:16:33Z</dcterms:modified>
  <cp:revision>35</cp:revision>
  <dc:subject/>
  <dc:title>Slide 1</dc:title>
</cp:coreProperties>
</file>