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EF2-ED47-4049-95B2-B6C20684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DD6-67ED-42D4-904B-58803550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7D0-3ABC-49A6-8FD3-15B77D30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86D5-319D-4E77-82D1-62C828D5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F8A-609D-4C6D-86B8-C16BAE83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5D8-59BE-4779-97E5-6BE13CA2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E2D-A083-4013-8BB8-03A214F7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8B4-0BD9-4841-B12E-3D0163A3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D58-7F4F-4958-8569-E5FC3125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672-0821-41DC-8C13-28BF144A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2E8-457F-4832-9BF9-1226D14B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238-76E4-4F1B-83EC-CC60A1E4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52AC-3AC0-4EC3-9356-E09A4B824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762440" cy="409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281952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Food Web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63882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mos.org/oceans/graphics/life/foodchai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28164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248520" y="990720"/>
            <a:ext cx="1752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#2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248520" y="517680"/>
            <a:ext cx="2743200" cy="56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the food web to answer these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hat is the produc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Name one organism that is an herbiv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ame one organism that is an omniv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Name one organism that is a carniv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What would happen to the minnow population if the grey heron were remov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760" y="643896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lanetarkive.org/topics/i/foodweb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280" y="380880"/>
            <a:ext cx="5943600" cy="5943600"/>
            <a:chOff x="152280" y="380880"/>
            <a:chExt cx="5943600" cy="5943600"/>
          </a:xfrm>
        </p:grpSpPr>
        <p:grpSp>
          <p:nvGrpSpPr>
            <p:cNvPr id="50" name=""/>
            <p:cNvGrpSpPr/>
            <p:nvPr/>
          </p:nvGrpSpPr>
          <p:grpSpPr>
            <a:xfrm>
              <a:off x="152280" y="380880"/>
              <a:ext cx="5943600" cy="5943600"/>
              <a:chOff x="152280" y="380880"/>
              <a:chExt cx="5943600" cy="594360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380880"/>
                <a:ext cx="5943600" cy="594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2"/>
              <a:srcRect l="32267" t="15810" r="63895" b="79490"/>
              <a:stretch/>
            </p:blipFill>
            <p:spPr>
              <a:xfrm>
                <a:off x="2971800" y="2222640"/>
                <a:ext cx="22860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" name="" descr=""/>
            <p:cNvPicPr/>
            <p:nvPr/>
          </p:nvPicPr>
          <p:blipFill>
            <a:blip r:embed="rId3"/>
            <a:srcRect l="62824" t="5131" r="30773" b="88466"/>
            <a:stretch/>
          </p:blipFill>
          <p:spPr>
            <a:xfrm>
              <a:off x="3429000" y="5649840"/>
              <a:ext cx="380880" cy="38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05520" y="3049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hat is the produc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243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ame one organism that is an omniv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763560"/>
            <a:ext cx="27432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t Plank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12222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Name one organism that is an herbiv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1986120"/>
            <a:ext cx="27432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phnia or Sn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73392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Name one organism that is a carniv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3200400"/>
            <a:ext cx="27432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d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4495680"/>
            <a:ext cx="36576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thing but daphnia, snai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tad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55627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What would happen to the minnow population if the grey heron were remov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06480" y="5997600"/>
            <a:ext cx="579132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ould expect the minnow population to increase, since there would not be heron around to eat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04920" y="914400"/>
            <a:ext cx="4419360" cy="4419720"/>
            <a:chOff x="304920" y="914400"/>
            <a:chExt cx="4419360" cy="4419720"/>
          </a:xfrm>
        </p:grpSpPr>
        <p:grpSp>
          <p:nvGrpSpPr>
            <p:cNvPr id="65" name=""/>
            <p:cNvGrpSpPr/>
            <p:nvPr/>
          </p:nvGrpSpPr>
          <p:grpSpPr>
            <a:xfrm>
              <a:off x="304920" y="914400"/>
              <a:ext cx="4419360" cy="4419720"/>
              <a:chOff x="304920" y="914400"/>
              <a:chExt cx="4419360" cy="441972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920" y="914400"/>
                <a:ext cx="4419360" cy="441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2"/>
              <a:srcRect l="32267" t="15810" r="63895" b="79490"/>
              <a:stretch/>
            </p:blipFill>
            <p:spPr>
              <a:xfrm>
                <a:off x="2401200" y="2283840"/>
                <a:ext cx="169920" cy="20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8" name="" descr=""/>
            <p:cNvPicPr/>
            <p:nvPr/>
          </p:nvPicPr>
          <p:blipFill>
            <a:blip r:embed="rId3"/>
            <a:srcRect l="62824" t="5131" r="30773" b="88466"/>
            <a:stretch/>
          </p:blipFill>
          <p:spPr>
            <a:xfrm>
              <a:off x="2741040" y="4832280"/>
              <a:ext cx="282960" cy="28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457200" y="3049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10-26T19:14:53Z</dcterms:modified>
  <cp:revision>35</cp:revision>
  <dc:subject/>
  <dc:title>Slide 1</dc:title>
</cp:coreProperties>
</file>