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A25-BF94-4F6A-AD05-80AFC403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571D-1DF1-4FA5-8BCA-DB41EE3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D6D-0B99-4955-812B-3FDAC8D9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6B5-DD7B-415E-867E-3114159A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565-ED82-44A4-ACE5-84020029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F13-655B-4FFA-B8E8-6CC0DFB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A8B-24F4-48B3-88FB-C95FB5E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64D-6CF3-4963-B43B-BDE2EF2D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D72-EA11-4A0B-A552-92C11989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1B0-7878-4731-B629-4F04EE5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AFF7-E456-4F26-971E-89A946F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A98-C595-4884-BA17-EE26ACC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EDE2-008D-4D25-9A35-5D420B79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2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248520" y="517680"/>
            <a:ext cx="2743200" cy="56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food web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s the produc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ame one organism that is an herb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me one organism that is an om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Name one organism that is a car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at would happen to the minnow population if the grey heron were remo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760" y="643896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lanetarkive.org/topics/i/foodweb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380880"/>
            <a:ext cx="5943600" cy="5943600"/>
            <a:chOff x="152280" y="380880"/>
            <a:chExt cx="5943600" cy="5943600"/>
          </a:xfrm>
        </p:grpSpPr>
        <p:grpSp>
          <p:nvGrpSpPr>
            <p:cNvPr id="50" name=""/>
            <p:cNvGrpSpPr/>
            <p:nvPr/>
          </p:nvGrpSpPr>
          <p:grpSpPr>
            <a:xfrm>
              <a:off x="152280" y="380880"/>
              <a:ext cx="5943600" cy="5943600"/>
              <a:chOff x="152280" y="380880"/>
              <a:chExt cx="5943600" cy="59436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380880"/>
                <a:ext cx="5943600" cy="594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rcRect l="32267" t="15810" r="63895" b="79490"/>
              <a:stretch/>
            </p:blipFill>
            <p:spPr>
              <a:xfrm>
                <a:off x="2971800" y="2222640"/>
                <a:ext cx="22860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" descr=""/>
            <p:cNvPicPr/>
            <p:nvPr/>
          </p:nvPicPr>
          <p:blipFill>
            <a:blip r:embed="rId3"/>
            <a:srcRect l="62824" t="5131" r="30773" b="88466"/>
            <a:stretch/>
          </p:blipFill>
          <p:spPr>
            <a:xfrm>
              <a:off x="3429000" y="564984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05520" y="304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is the produc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243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ame one organism that is an om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76356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 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1222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Name one organism that is an herb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98612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phnia or Sn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7339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Name one organism that is a carniv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320040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d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495680"/>
            <a:ext cx="36576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thing but daphnia, snail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ad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55627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at would happen to the minnow population if the grey heron were remo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06480" y="5997600"/>
            <a:ext cx="579132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ould expect the minnow population to increase, since there would not be heron around to eat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914400"/>
            <a:ext cx="4419360" cy="4419720"/>
            <a:chOff x="304920" y="914400"/>
            <a:chExt cx="4419360" cy="4419720"/>
          </a:xfrm>
        </p:grpSpPr>
        <p:grpSp>
          <p:nvGrpSpPr>
            <p:cNvPr id="65" name=""/>
            <p:cNvGrpSpPr/>
            <p:nvPr/>
          </p:nvGrpSpPr>
          <p:grpSpPr>
            <a:xfrm>
              <a:off x="304920" y="914400"/>
              <a:ext cx="4419360" cy="4419720"/>
              <a:chOff x="304920" y="914400"/>
              <a:chExt cx="4419360" cy="441972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914400"/>
                <a:ext cx="4419360" cy="44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2"/>
              <a:srcRect l="32267" t="15810" r="63895" b="79490"/>
              <a:stretch/>
            </p:blipFill>
            <p:spPr>
              <a:xfrm>
                <a:off x="2401200" y="2283840"/>
                <a:ext cx="169920" cy="20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8" name="" descr=""/>
            <p:cNvPicPr/>
            <p:nvPr/>
          </p:nvPicPr>
          <p:blipFill>
            <a:blip r:embed="rId3"/>
            <a:srcRect l="62824" t="5131" r="30773" b="88466"/>
            <a:stretch/>
          </p:blipFill>
          <p:spPr>
            <a:xfrm>
              <a:off x="2741040" y="4832280"/>
              <a:ext cx="282960" cy="28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457200" y="304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4:53Z</dcterms:modified>
  <cp:revision>35</cp:revision>
  <dc:subject/>
  <dc:title>Slide 1</dc:title>
</cp:coreProperties>
</file>