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88FD-AA01-4AE6-ADD4-AD150714B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B08A-F157-4332-AE10-6E8F33DB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383B-419E-42E6-B1AA-BC72B25C7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CAB9-56BE-42E4-846B-C7D658056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4F5F-88B3-49D0-AAA3-C29EE5CE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41A7-14DB-4FF5-8130-C7D79DF7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B1B7-2E11-4C27-B56D-4AAFD949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BECC-A180-4406-BA5A-E90E45A6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A97D-CD84-4F11-B325-E4F11753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F8A7-2629-4812-9F8F-D71FFD17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CA2C-39C9-4689-9C6F-499D45B4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AE58-3118-4209-98D3-7F68BDAB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3DFD-9B4D-4A62-BBE1-0047E0516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4762440" cy="409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09480" y="2819520"/>
            <a:ext cx="78487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ooper Black"/>
              </a:rPr>
              <a:t>Food Web Challeng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5867280" y="63882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mos.org/oceans/graphics/life/foodchain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28164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6248520" y="990720"/>
            <a:ext cx="1752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ooper Black"/>
              </a:rPr>
              <a:t>#1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638680" y="914400"/>
            <a:ext cx="327672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What are the produce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Name two organisms that are herbiv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Name one organism that is a carniv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What would happen to the snake population if the hawk were remo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52280" y="914400"/>
            <a:ext cx="5410440" cy="4818240"/>
            <a:chOff x="152280" y="914400"/>
            <a:chExt cx="5410440" cy="4818240"/>
          </a:xfrm>
        </p:grpSpPr>
        <p:sp>
          <p:nvSpPr>
            <p:cNvPr id="49" name=""/>
            <p:cNvSpPr/>
            <p:nvPr/>
          </p:nvSpPr>
          <p:spPr>
            <a:xfrm>
              <a:off x="152280" y="5486400"/>
              <a:ext cx="541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mage: http://weedeco.msu.montana.edu/class/LRES443/Lectures/Lecture20/FoodWeb.JP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52280" y="914400"/>
              <a:ext cx="5410440" cy="457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the food web to answer thes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638680" y="914400"/>
            <a:ext cx="327672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What are the produce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Name two organisms that are herbiv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Name one organism that is a carniv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What would happen to the snake population if the hawk were remo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1295280"/>
            <a:ext cx="27432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ak Tree &amp; Pine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2422440"/>
            <a:ext cx="27432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ne Borer &amp; M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3565440"/>
            <a:ext cx="2743200" cy="703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amander, Kinglet, Snake, or Haw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67280" y="5318280"/>
            <a:ext cx="2743200" cy="131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there would be more mice and birds, we would expect the snake population to incre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52280" y="914400"/>
            <a:ext cx="5410440" cy="4818240"/>
            <a:chOff x="152280" y="914400"/>
            <a:chExt cx="5410440" cy="4818240"/>
          </a:xfrm>
        </p:grpSpPr>
        <p:sp>
          <p:nvSpPr>
            <p:cNvPr id="59" name=""/>
            <p:cNvSpPr/>
            <p:nvPr/>
          </p:nvSpPr>
          <p:spPr>
            <a:xfrm>
              <a:off x="152280" y="5486400"/>
              <a:ext cx="541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mage: http://weedeco.msu.montana.edu/class/LRES443/Lectures/Lecture20/FoodWeb.JP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52280" y="914400"/>
              <a:ext cx="5410440" cy="457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10-26T19:15:29Z</dcterms:modified>
  <cp:revision>36</cp:revision>
  <dc:subject/>
  <dc:title>Slide 1</dc:title>
</cp:coreProperties>
</file>