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D88-AE98-4439-9F1C-47C8B020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E33E-2F0E-4B41-8BCF-4E326350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350-1CF1-43D5-A25E-536C4B63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BB6-FC06-49A2-8C6F-86215423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011-ACE3-4BFB-84D5-29878B8C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04B-4D1B-452E-9B18-C1B7BD54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5DE-FA81-45A9-A5FA-FBF69DD4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E78-A3D7-44F9-9A0D-94473CDF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0654-9F8D-4C6C-8432-B8D3E2F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595-24C7-4CF2-9BC2-2D26DC7D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91A-AAB4-4362-860F-3052F7E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3C9-DB50-4029-8284-D5E96960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68D1-C0F5-4732-B0AC-33F38C89D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4762440" cy="409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281952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Food Web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63882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mos.org/oceans/graphics/life/foodchai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28164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248520" y="990720"/>
            <a:ext cx="1752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#1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38680" y="914400"/>
            <a:ext cx="3276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at are the produc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Name two organisms that are herbiv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Name one organism that is a carniv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What would happen to the snake population if the hawk were rem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2280" y="914400"/>
            <a:ext cx="5410440" cy="4818240"/>
            <a:chOff x="152280" y="914400"/>
            <a:chExt cx="5410440" cy="4818240"/>
          </a:xfrm>
        </p:grpSpPr>
        <p:sp>
          <p:nvSpPr>
            <p:cNvPr id="49" name=""/>
            <p:cNvSpPr/>
            <p:nvPr/>
          </p:nvSpPr>
          <p:spPr>
            <a:xfrm>
              <a:off x="152280" y="5486400"/>
              <a:ext cx="541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mage: http://weedeco.msu.montana.edu/class/LRES443/Lectures/Lecture20/FoodWeb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52280" y="914400"/>
              <a:ext cx="5410440" cy="45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food web to answer thes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638680" y="914400"/>
            <a:ext cx="3276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at are the produc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Name two organisms that are herbiv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Name one organism that is a carniv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What would happen to the snake population if the hawk were remo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29528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k Tree &amp; Pin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2422440"/>
            <a:ext cx="27432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ne Borer &amp; 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565440"/>
            <a:ext cx="27432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mander, Kinglet, Snake, or Haw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5318280"/>
            <a:ext cx="2743200" cy="131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there would be more mice and birds, we would expect the snake population to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914400"/>
            <a:ext cx="5410440" cy="4818240"/>
            <a:chOff x="152280" y="914400"/>
            <a:chExt cx="5410440" cy="4818240"/>
          </a:xfrm>
        </p:grpSpPr>
        <p:sp>
          <p:nvSpPr>
            <p:cNvPr id="59" name=""/>
            <p:cNvSpPr/>
            <p:nvPr/>
          </p:nvSpPr>
          <p:spPr>
            <a:xfrm>
              <a:off x="152280" y="5486400"/>
              <a:ext cx="541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mage: http://weedeco.msu.montana.edu/class/LRES443/Lectures/Lecture20/FoodWeb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914400"/>
              <a:ext cx="541044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10-26T19:15:29Z</dcterms:modified>
  <cp:revision>36</cp:revision>
  <dc:subject/>
  <dc:title>Slide 1</dc:title>
</cp:coreProperties>
</file>