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70C9-C8C7-47B8-88B7-266EE1CD5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74D1-FC66-4D81-B2C3-A2B203E68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B837-6563-41B0-85C2-9B53E8ECE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7AD9-1D25-4AE3-A540-D28530867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93A3-CFAA-4CA2-B395-B965FBD71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8441-177F-45AF-A21A-6A38998B2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8265-74D3-4916-A9D1-B80FA57DB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1F84-123C-48D0-A22C-46387457E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97C3-89DA-446F-A142-5D93DDC00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F366-3F1B-45CE-9265-8969FB53F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7CEF-5767-4B95-9A46-D152426B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4209-9497-4431-8A92-85C1B11C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B92A6-1074-4292-AF62-D81674F812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91120" y="6400800"/>
            <a:ext cx="426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657600" y="4724280"/>
            <a:ext cx="48006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llenge #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n you unscramble the letters to figure out the ecology term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295280" y="4267080"/>
            <a:ext cx="2287800" cy="23623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533520" y="685800"/>
            <a:ext cx="830556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Cooper Black"/>
              </a:rPr>
              <a:t>Eco Scrambl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4479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    E  D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A  R  O  R  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2280" y="228600"/>
            <a:ext cx="88394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scramble the letters to figure out each ecology te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240336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    R  A  S  T  E  A  I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335916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    G  R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M  T  I  O  N  A 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31496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    G  R  A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S  M  I 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527220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     I  R  H  T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T  A  E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52280" y="228600"/>
            <a:ext cx="88394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447920"/>
            <a:ext cx="30481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D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943600" y="2403360"/>
            <a:ext cx="30481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A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3600" y="3359160"/>
            <a:ext cx="30481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943600" y="4314960"/>
            <a:ext cx="30481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RG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43600" y="5272200"/>
            <a:ext cx="30481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IRTH 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4479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    E  D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A  R  O  R  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40336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    R  A  S  T  E  A  I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335916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    G  R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M  T  I  O  N  A 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31496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    G  R  A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S  M  I 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527220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     I  R  H  T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T  A  E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2:20:42Z</dcterms:created>
  <dc:creator>Tracy Trimpe</dc:creator>
  <dc:description/>
  <dc:language>en-US</dc:language>
  <cp:lastModifiedBy>Tracy Trimpe</cp:lastModifiedBy>
  <dcterms:modified xsi:type="dcterms:W3CDTF">2008-10-26T19:22:07Z</dcterms:modified>
  <cp:revision>122</cp:revision>
  <dc:subject/>
  <dc:title>Who am I?</dc:title>
</cp:coreProperties>
</file>