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7E6-FDBC-4C7F-A7CD-3955ED01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D58-153A-4EDA-BBFD-A60F40E5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CE5-43E7-49A6-B7D8-F4163081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B48-4AF8-4B7C-8BD6-7140E9CB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7CA-72CD-4B2D-9629-4E37CD86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8FF-209D-4E8C-8E0D-45F73E55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84F-717D-4F2E-BCFE-98830178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812-68D3-43CF-A904-45398A35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2B9-F523-48E2-9896-FF899CB3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E12-C859-4403-B420-635F47BC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DB0-EF2A-440A-9410-2612B6E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E78-C2B8-4C7E-BAB3-260EA3C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9AB3-4480-40C9-917F-8956E7744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72428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letters to figure out the ecology te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2287800" cy="23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3520" y="685800"/>
            <a:ext cx="8305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Eco Scram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447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E  D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  R  O  R 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cramble the letters to figure out each ecology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403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R  A  S  T  E  A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359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G  R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M  T  I  O  N  A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314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G  R  A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  M  I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I  R  H  T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T  A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44792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4033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3591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43149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527220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TH 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447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E  D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  R  O  R 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403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R  A  S  T  E  A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359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G  R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M  T  I  O  N  A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314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G  R  A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  M  I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I  R  H  T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T  A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22:07Z</dcterms:modified>
  <cp:revision>122</cp:revision>
  <dc:subject/>
  <dc:title>Who am I?</dc:title>
</cp:coreProperties>
</file>