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8EC-791D-4DC3-AE1B-9BAB4FA4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001-5B9A-4B93-A4C4-F392F3C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892-1CD8-488C-866F-E4FB10F3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57A-5416-471B-AD40-22383ACA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6FA-3E4B-4CFE-9FFE-A35FEC94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9B7-CBBF-4148-B6EE-A59850EC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9DC-40AF-4602-A56A-A447741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AD7-D6E8-4081-8F42-A7C21052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490-A0DF-4409-8D83-F1E6B6BD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D8D-C054-4E5E-9329-37B0D28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19D-728D-4B95-8B5F-7573FDC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FA5-2D18-4196-A59A-CCC6F91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DEB-7516-4D03-AB24-2724D96C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G  T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I  O  N  M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U  L  O  T  P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O  T  N  I  O  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149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M  S  B  O  S  Y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O  S  T  M  Y  E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44792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24033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33591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431496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B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272200"/>
            <a:ext cx="3048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447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G  T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  I  O  N  M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03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U  L  O  T  P  A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916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  O  T  N  I  O  T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31496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M  S  B  O  S  Y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O  S  T  M  Y  E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0:25Z</dcterms:modified>
  <cp:revision>121</cp:revision>
  <dc:subject/>
  <dc:title>Who am I?</dc:title>
</cp:coreProperties>
</file>