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099C-D15A-4481-8828-651CB066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C06D-8A57-44A1-A49D-B9CBEE5C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04D5-7BA4-4D7C-B3BA-F7E90A82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D7D4-FE59-4DAB-BA92-27B6884E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A517-AA86-4278-BE4E-596BF604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7389-3370-4AB5-864C-E2270A64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A528-19C3-4B55-B4BB-71C74875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F43C-69DB-47B6-8EE5-48195315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E7D4-FAFB-48A1-ABCE-834754C2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BB64-0D7E-4FF6-8E7F-BB84BA2E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D18A-CD32-4930-924D-ED09663C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FA67-6D97-458C-B7F0-76827844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1C0C-F16A-47AE-B90A-4E76D3A54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64008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4724280"/>
            <a:ext cx="4800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unscramble the letters to figure out the ecology ter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95280" y="4267080"/>
            <a:ext cx="2287800" cy="2362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533520" y="685800"/>
            <a:ext cx="830556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oper Black"/>
              </a:rPr>
              <a:t>Eco Scrambl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scramble the letters to figure out each ecology 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4479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   I  G  T  M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A  I  O  N  M 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4033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   U  L  O  T  P  A  I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O 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35916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    P  E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M  O  T  N  I  O  T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31496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    M  S  B  O  S  Y  I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I 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5272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    O  S  T  M  Y  E  C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447920"/>
            <a:ext cx="3048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2403360"/>
            <a:ext cx="3048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3359160"/>
            <a:ext cx="3048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4314960"/>
            <a:ext cx="3048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B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5272200"/>
            <a:ext cx="3048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O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4479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   I  G  T  M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A  I  O  N  M 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4033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   U  L  O  T  P  A  I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O 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35916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    P  E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M  O  T  N  I  O  T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31496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    M  S  B  O  S  Y  I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I 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272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    O  S  T  M  Y  E  C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10-26T19:20:25Z</dcterms:modified>
  <cp:revision>121</cp:revision>
  <dc:subject/>
  <dc:title>Who am I?</dc:title>
</cp:coreProperties>
</file>