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D9B-DEEB-486B-A29B-1283C066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21E-56BB-4605-8DE2-CAF8881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BBE-B640-4E1F-B131-514FC120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AE1-687B-4A8B-9911-B6F50CF0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E85-D6E0-4F18-AC85-81A33501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CA1-A441-4FF0-BADE-596D1A59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B2E-F62D-4B78-95D6-A30DACA5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3A9-E1E8-4A0E-877A-E969FBF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77D-3FC0-4CE0-BEEE-AC9DBDD7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B3D-C469-48A0-BE8C-FD6FC007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A42-46D4-4895-9F4C-DFCF49F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8A0-F99D-49F9-8AAA-14A14E5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8A5B-D210-431E-95C7-97C71172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7242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letters to figure out the ecology te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28780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85800"/>
            <a:ext cx="8305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Eco Scram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447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C  H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cramble the letters to figure out each ecolog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403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T  B  A  T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359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C  E  S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O  T  B  I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M  O  T  N  U  I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447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C  H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403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T  B  A  T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359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C  E  S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O  T  B  I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M  O  T  N  U  I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44792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40336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35916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31496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27220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21:06Z</dcterms:modified>
  <cp:revision>116</cp:revision>
  <dc:subject/>
  <dc:title>Who am I?</dc:title>
</cp:coreProperties>
</file>