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D0AA-907E-4A2D-B927-B4E8E9DDD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4FD8-3657-4B49-9BF7-42F4CBE2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C767-C663-4450-9E9B-97372A869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D8EE-09CE-46B8-A687-28BCDBB18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E264-AB08-44F7-87E6-A5D7400E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0046-0D96-4274-A107-A7F85D95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BA35-D2AA-4FD2-B6EE-506649A3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8192-F64A-4C57-8E70-2204D864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DD74-8AD3-4867-A4CD-88E904EE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23FA-086D-4D55-8C49-B8FE7A4E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0D2E-2E37-464B-8EB5-EA10F8E5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E333-65A6-42F9-8D2B-9183EA5F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13A9-1E7E-4245-BEA7-268B2C5B8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1120" y="640080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57600" y="4724280"/>
            <a:ext cx="4800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lleng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you unscramble the letters to figure out the ecology ter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295280" y="4267080"/>
            <a:ext cx="2287800" cy="2362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533520" y="685800"/>
            <a:ext cx="830556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oper Black"/>
              </a:rPr>
              <a:t>Eco Scramble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14479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    I  C  H  E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scramble the letters to figure out each ecology te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240336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    T  B  A  T  I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35916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    P  C  E  S  E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31496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    O  T  B  I  C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52722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    M  O  T  N  U  I  M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4479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    I  C  H  E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240336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    T  B  A  T  I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335916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    P  C  E  S  E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431496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    O  T  B  I  C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52722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    M  O  T  N  U  I  M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5880" y="1447920"/>
            <a:ext cx="25909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403360"/>
            <a:ext cx="25909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BI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5880" y="3359160"/>
            <a:ext cx="25909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4314960"/>
            <a:ext cx="25909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I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5272200"/>
            <a:ext cx="25909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10-26T19:21:06Z</dcterms:modified>
  <cp:revision>116</cp:revision>
  <dc:subject/>
  <dc:title>Who am I?</dc:title>
</cp:coreProperties>
</file>