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8B9A-905E-435E-BCB4-B867C08B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049-451E-47EB-A674-8D9E0E1E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CFF9-132D-4DED-A570-F5AFFBD1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DB90-09D8-4350-9B84-62E6F622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01B7-0AB4-4EE2-A900-02DF2695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B051-4A22-40DC-B867-A8D1E6C1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C19F-AA43-4129-8273-6E28E789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CB34-8ABC-44A5-B21D-33465634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2E28-91A0-4393-937D-BF61DE27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9D75-DF4B-4853-B7A6-66584803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EC6B-B701-4E4A-B56A-78C2A542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319E-DEFE-4A13-8B64-0E2F0DCF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6972-BAA1-4278-8219-2A65D4286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762120"/>
            <a:ext cx="784836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roadway"/>
              </a:rPr>
              <a:t>Ecology Basic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roadway"/>
              <a:ea typeface="Broadway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64008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86200" y="50292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llenge #3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pulation 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6251"/>
          <a:stretch/>
        </p:blipFill>
        <p:spPr>
          <a:xfrm>
            <a:off x="228600" y="342900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876312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If a population of 50 cottontail rabbits produce 300 young in a year, what is the birth rate for this popul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True or False – If the birth rate &lt; death rate, the population will increase in size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term refers to the movement of animals into a popul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Use the graph to answer these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In which year did the population decreas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o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In which year did the population increas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o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 each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181480" y="3886200"/>
            <a:ext cx="3809880" cy="2971800"/>
            <a:chOff x="5181480" y="3886200"/>
            <a:chExt cx="3809880" cy="2971800"/>
          </a:xfrm>
        </p:grpSpPr>
        <p:grpSp>
          <p:nvGrpSpPr>
            <p:cNvPr id="49" name=""/>
            <p:cNvGrpSpPr/>
            <p:nvPr/>
          </p:nvGrpSpPr>
          <p:grpSpPr>
            <a:xfrm>
              <a:off x="5181480" y="3886200"/>
              <a:ext cx="3809880" cy="2971800"/>
              <a:chOff x="5181480" y="3886200"/>
              <a:chExt cx="3809880" cy="2971800"/>
            </a:xfrm>
          </p:grpSpPr>
          <p:graphicFrame>
            <p:nvGraphicFramePr>
              <p:cNvPr id="50" name=""/>
              <p:cNvGraphicFramePr/>
              <p:nvPr/>
            </p:nvGraphicFramePr>
            <p:xfrm>
              <a:off x="5181480" y="4343400"/>
              <a:ext cx="3809880" cy="25146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5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181480" y="4343400"/>
                        <a:ext cx="3809880" cy="251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2" name=""/>
              <p:cNvSpPr/>
              <p:nvPr/>
            </p:nvSpPr>
            <p:spPr>
              <a:xfrm>
                <a:off x="5486400" y="3886200"/>
                <a:ext cx="3504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abbit Population Study</a:t>
                </a:r>
                <a:br>
                  <a:rPr sz="18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recorded at the end of each year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>
              <a:off x="7924680" y="5486400"/>
              <a:ext cx="911520" cy="69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876312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If a population of 50 cottontail rabbits produce 300 young in a year, what is the birth rate for this popul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True or False – If the birth rate &lt; death rate, the population will increase in size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term refers to the movement of animals into a popul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Use the graph to answer these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In which year did the population decreas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ost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In which year did the population increas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o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1447920"/>
            <a:ext cx="3124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0 rabbit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3657600"/>
            <a:ext cx="2057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518148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ea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81480" y="3886200"/>
            <a:ext cx="3809880" cy="2971800"/>
            <a:chOff x="5181480" y="3886200"/>
            <a:chExt cx="3809880" cy="2971800"/>
          </a:xfrm>
        </p:grpSpPr>
        <p:grpSp>
          <p:nvGrpSpPr>
            <p:cNvPr id="60" name=""/>
            <p:cNvGrpSpPr/>
            <p:nvPr/>
          </p:nvGrpSpPr>
          <p:grpSpPr>
            <a:xfrm>
              <a:off x="5181480" y="3886200"/>
              <a:ext cx="3809880" cy="2971800"/>
              <a:chOff x="5181480" y="3886200"/>
              <a:chExt cx="3809880" cy="2971800"/>
            </a:xfrm>
          </p:grpSpPr>
          <p:graphicFrame>
            <p:nvGraphicFramePr>
              <p:cNvPr id="61" name=""/>
              <p:cNvGraphicFramePr/>
              <p:nvPr/>
            </p:nvGraphicFramePr>
            <p:xfrm>
              <a:off x="5181480" y="4343400"/>
              <a:ext cx="3809880" cy="25146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6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181480" y="4343400"/>
                        <a:ext cx="3809880" cy="251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3" name=""/>
              <p:cNvSpPr/>
              <p:nvPr/>
            </p:nvSpPr>
            <p:spPr>
              <a:xfrm>
                <a:off x="5486400" y="3886200"/>
                <a:ext cx="3504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abbit Population Study</a:t>
                </a:r>
                <a:br>
                  <a:rPr sz="18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recorded at the end of each year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7924680" y="5486400"/>
              <a:ext cx="911520" cy="69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447920" y="2590920"/>
            <a:ext cx="44956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se – The population would decr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615636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ea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10-11T01:15:09Z</dcterms:modified>
  <cp:revision>115</cp:revision>
  <dc:subject/>
  <dc:title>Who am I?</dc:title>
</cp:coreProperties>
</file>