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F9D-775C-4633-B6A8-F60CD48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A4B-7CB0-4A45-A6C6-C38849C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B04-9104-4780-90B1-13E0EF7A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135-08B3-43F2-A457-5A63E0F8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E76-937B-47CB-9FC5-6FBE61A1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A39-84AD-46C8-8976-43317F8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827-B75E-43B9-A97C-3CF0806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23F-DF0E-4912-AEF2-04861BC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128-F4AA-4CF8-B67D-922C5A9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3AC-111C-4747-8C3C-81898BA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AEB-151F-41F3-A606-A2D4217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563-70FA-4F0F-A268-1EA13D9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DBD4-4CB5-4B12-953F-63E0F428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7631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If a population of 50 cottontail rabbits produce 300 young in a year, what is the birth rate for this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 – If the birth rate &lt; death rate, the population will increase in size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the movement of animals into a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Use the graph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 which year did the population de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 which year did the population in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181480" y="3886200"/>
            <a:ext cx="3809880" cy="2971800"/>
            <a:chOff x="5181480" y="3886200"/>
            <a:chExt cx="3809880" cy="2971800"/>
          </a:xfrm>
        </p:grpSpPr>
        <p:grpSp>
          <p:nvGrpSpPr>
            <p:cNvPr id="49" name=""/>
            <p:cNvGrpSpPr/>
            <p:nvPr/>
          </p:nvGrpSpPr>
          <p:grpSpPr>
            <a:xfrm>
              <a:off x="5181480" y="3886200"/>
              <a:ext cx="3809880" cy="2971800"/>
              <a:chOff x="5181480" y="3886200"/>
              <a:chExt cx="3809880" cy="297180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5181480" y="4343400"/>
              <a:ext cx="3809880" cy="25146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1480" y="4343400"/>
                        <a:ext cx="3809880" cy="251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" name=""/>
              <p:cNvSpPr/>
              <p:nvPr/>
            </p:nvSpPr>
            <p:spPr>
              <a:xfrm>
                <a:off x="5486400" y="3886200"/>
                <a:ext cx="350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abbit Population Study</a:t>
                </a:r>
                <a:br>
                  <a:rPr sz="18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recorded at the end of each year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7924680" y="5486400"/>
              <a:ext cx="911520" cy="69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87631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If a population of 50 cottontail rabbits produce 300 young in a year, what is the birth rate for this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 – If the birth rate &lt; death rate, the population will increase in size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the movement of animals into a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Use the graph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 which year did the population de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 which year did the population in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447920"/>
            <a:ext cx="3124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 rabbi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65760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1814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81480" y="3886200"/>
            <a:ext cx="3809880" cy="2971800"/>
            <a:chOff x="5181480" y="3886200"/>
            <a:chExt cx="3809880" cy="2971800"/>
          </a:xfrm>
        </p:grpSpPr>
        <p:grpSp>
          <p:nvGrpSpPr>
            <p:cNvPr id="60" name=""/>
            <p:cNvGrpSpPr/>
            <p:nvPr/>
          </p:nvGrpSpPr>
          <p:grpSpPr>
            <a:xfrm>
              <a:off x="5181480" y="3886200"/>
              <a:ext cx="3809880" cy="2971800"/>
              <a:chOff x="5181480" y="3886200"/>
              <a:chExt cx="3809880" cy="2971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5181480" y="4343400"/>
              <a:ext cx="3809880" cy="25146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1480" y="4343400"/>
                        <a:ext cx="3809880" cy="251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5486400" y="3886200"/>
                <a:ext cx="350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abbit Population Study</a:t>
                </a:r>
                <a:br>
                  <a:rPr sz="18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recorded at the end of each year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7924680" y="5486400"/>
              <a:ext cx="9115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447920" y="2590920"/>
            <a:ext cx="4495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– The population would de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61563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11T01:15:09Z</dcterms:modified>
  <cp:revision>115</cp:revision>
  <dc:subject/>
  <dc:title>Who am I?</dc:title>
</cp:coreProperties>
</file>