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B2C-C4DE-4FA3-A853-B17C4E8C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4EA-9917-44C6-BCFE-E179CC5D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611-2143-4C60-B4E5-B87B96AC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C49-D493-4CE9-949E-4BE1F013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55E-777B-478E-942D-5A23BCA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0FB-12F0-4EBA-92F1-384D6BBA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9BF-5CCE-4F6C-8733-3971B303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E08-4894-4217-8C5F-33AEE132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9AB-ADD0-4D96-AAE8-43023010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AB7-8CE1-4A53-A7BE-88337F12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F1F-B7FC-45E5-AA95-12D44D3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60F-1E56-4344-9122-3BF0133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D8F5-D2F7-497A-A62C-4B45F8BC1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7621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roadway"/>
              </a:rPr>
              <a:t>Ecology Basic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roadway"/>
              <a:ea typeface="Broadway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50292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6251"/>
          <a:stretch/>
        </p:blipFill>
        <p:spPr>
          <a:xfrm>
            <a:off x="228600" y="34290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914400"/>
            <a:ext cx="8763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term refers to all the members of one species in a particular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do we call all the different populations that live in an are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all the living and nonliving things that interact in an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Organize these terms from the smallest to the larg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ty, Organism, Ecosystem,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o we call a scientist who studies how living things interact with each other and their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 each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914400"/>
            <a:ext cx="876312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What term refers to all the members of one species in a particular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at do we call all the different populations that live in an are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term refers to all the living and nonliving things that interact in an ar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Organize these terms from the smallest to the larg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ty, Organism, Ecosystem,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o we call a scientist who studies how living things interact with each other and their enviro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37160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234648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413160"/>
            <a:ext cx="2057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4937040"/>
            <a:ext cx="6781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sm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pulatio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mmunity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co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6095880"/>
            <a:ext cx="1752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9-28T01:36:40Z</dcterms:modified>
  <cp:revision>110</cp:revision>
  <dc:subject/>
  <dc:title>Who am I?</dc:title>
</cp:coreProperties>
</file>