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7A8-609A-4F2C-9E77-BA69F16E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090-959E-49A9-98E7-9AE57EE2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83E-61CE-4E33-83FD-8BE6A40D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911-6ADC-49FA-8629-54E1FFB1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01F-C17B-4AC2-91C4-6D9C7D5F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E27-DF92-4843-A19F-F0370F8D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318-D814-4321-8945-23561F95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790-F9FC-427C-9482-4C1ABE9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AFD-39CA-47D3-B35D-316D18A7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10C-8955-451D-8253-B0C5F05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033-2D64-4A90-8CED-857706F3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377-EA62-4286-BE35-385B69DB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269A-DDDA-4C7A-B74F-0CF711FA5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762120"/>
            <a:ext cx="78483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roadway"/>
              </a:rPr>
              <a:t>Ecology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5029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s of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1"/>
          <a:stretch/>
        </p:blipFill>
        <p:spPr>
          <a:xfrm>
            <a:off x="228600" y="34290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term refers to all the members of one species in a particular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do we call all the different populations that live in an are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term refers to all the living and nonliving things that interact in an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Organize these terms from the smallest to the larg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ty, Organism, Ecosystem, 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o we call a scientist who studies how living things interact with each other and their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ea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87631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term refers to all the members of one species in a particular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do we call all the different populations that live in an are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term refers to all the living and nonliving things that interact in an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Organize these terms from the smallest to the larg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ty, Organism, Ecosystem, 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o we call a scientist who studies how living things interact with each other and their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37160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234648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41316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937040"/>
            <a:ext cx="6781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sm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pulatio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mmunity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co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60958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9-28T01:36:40Z</dcterms:modified>
  <cp:revision>110</cp:revision>
  <dc:subject/>
  <dc:title>Who am I?</dc:title>
</cp:coreProperties>
</file>