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8EF-EA7C-40F6-BF00-9F034A66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039-D42F-4ED4-AC34-68B86537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72C-AF9D-49AD-BCE1-C36F3670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F26-597F-4535-8A84-D88395B0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EAC-1C6A-4AE0-B650-4B42D92F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023-319F-4E9A-A5F3-6685B15F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153-07BE-47FE-AB9C-76EEF2FA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63C-653B-4636-8470-2956462D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AF7-6DB2-47FC-B425-B5FB808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3FF-8FF4-43A6-8AB6-A0ED6D27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FFE-BCA9-4A04-812D-7C1ED308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0CA-462C-4AD6-9889-847D61CE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DB1A-363F-496B-BBF9-9A412C237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762120"/>
            <a:ext cx="78483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roadway"/>
              </a:rPr>
              <a:t>Ecology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5029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i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1"/>
          <a:stretch/>
        </p:blipFill>
        <p:spPr>
          <a:xfrm>
            <a:off x="228600" y="34290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do we call the place where an organism l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four things does a good habitat provid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are two biotic factors in the habitat of a field mo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y do you find different kinds of organisms in different  habita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each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do we call the place where an organism l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four things does a good habitat provid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are two biotic factors in the habitat of a field mo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y do you find different kinds of organisms in different  habita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1523880"/>
            <a:ext cx="1371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2895480"/>
            <a:ext cx="6400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od, water, shelter, an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251240"/>
            <a:ext cx="6858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ss or other plants, insects, snakes, gophers, hawks, ow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562720"/>
            <a:ext cx="68580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 organisms need different things to survive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organisms can survive in a desert, but others can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11T01:16:04Z</dcterms:modified>
  <cp:revision>110</cp:revision>
  <dc:subject/>
  <dc:title>Who am I?</dc:title>
</cp:coreProperties>
</file>