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F14-D6EB-4473-925B-176296B4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1CC-F095-4712-84B3-9DAB3C36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F30-AAF0-43EB-AD36-60DB5673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D7C-453B-4FA4-88A5-B4CDAB53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12F-F835-4D40-8597-A0E1A90B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53A9-B7D3-4321-BE3E-E1D74B81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35F-6F0D-4B77-98D7-316A122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F02-9806-44E1-9B45-EBB56C1E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340-FDD4-4537-BB31-CF26E9C6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658-5239-4390-B3DB-EE639394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3CD-0591-40FE-BDB0-374FF28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A26-1FED-4791-A7EF-F9522BC6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452A-4B02-4E94-8B74-9686BA269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roadway"/>
              </a:rPr>
              <a:t>Ecology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bi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1"/>
          <a:stretch/>
        </p:blipFill>
        <p:spPr>
          <a:xfrm>
            <a:off x="22860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do we call the place where an organism l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four things does a good habitat provi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are two biotic factors in the habitat of a field mo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y do you find different kinds of organisms in different  habita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do we call the place where an organism l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four things does a good habitat provid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are two biotic factors in the habitat of a field mo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y do you find different kinds of organisms in different  habita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1523880"/>
            <a:ext cx="1371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2895480"/>
            <a:ext cx="6400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d, water, shelter, an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251240"/>
            <a:ext cx="6858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ss or other plants, insects, snakes, gophers, hawks, ow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5562720"/>
            <a:ext cx="68580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erent organisms need different things to survive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organisms can survive in a desert, but others can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11T01:16:04Z</dcterms:modified>
  <cp:revision>110</cp:revision>
  <dc:subject/>
  <dc:title>Who am I?</dc:title>
</cp:coreProperties>
</file>