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80A-516A-4A7C-865A-71D67C3C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0AA-197F-4495-860B-F02B584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42B-F875-4C88-8869-41B55DBB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FC1-9F6A-4B77-9312-9389FCF5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BFA-230F-40DD-B924-5802FC70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DF1-D1AC-4A03-9F67-6800EABE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193-03F5-4C6F-B6A8-03D59653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A7B-66DE-4630-AF21-559EFA1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84C1-1699-4C56-B687-1957C53B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AE0-BE68-4266-9958-C6E9AD2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9B0-3E3C-431F-9E98-73835C9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E43-875D-43F4-B593-5F99291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20B8-0D9B-4D71-ABDB-7C056D7F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ids.pbs.org/dragonflytv/show/fishpopulation.html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ids.pbs.org/dragonflytv/show/fishpopulation.html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609480"/>
            <a:ext cx="7848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Broadway"/>
              </a:rPr>
              <a:t>Fish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95680" y="5181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onfly TV – Fish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4191120"/>
            <a:ext cx="27432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3880"/>
            <a:ext cx="8153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is the most important fish in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did the figure out how many fish were in the l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ld gu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ampling     C.  Asked fishermen      D. Asked b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fish population did not increase over the three year stud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type of fish did they find for the firs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Large Mouth B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3880"/>
            <a:ext cx="81532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is the most important fish in this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did the figure out how many fish were in the l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ld gu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Sampling     C.  Asked fishermen      D. Asked b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ich fish population did not increase over the three year stud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ack Crap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type of fish did they find for the firs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Bluegill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Walley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Bullh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Large Mouth B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088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6094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1981080"/>
            <a:ext cx="129528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352680"/>
            <a:ext cx="1676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724280"/>
            <a:ext cx="144756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6095880"/>
            <a:ext cx="236196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32:21Z</dcterms:modified>
  <cp:revision>108</cp:revision>
  <dc:subject/>
  <dc:title>Who am I?</dc:title>
</cp:coreProperties>
</file>