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56DE-69CD-49C5-BF8B-F23774B0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1F30-F2DE-453F-91AA-237EE676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6562-C5F2-45F8-8529-100AC26C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E3DA-7A45-434A-8978-2665C872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CE6A-152D-4AB2-9776-C2182E4F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BFEF-F3A4-46CB-B94C-5A558F94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5AFB-56BD-48C5-8D1A-FFBC8EB8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E548-4C78-4A1F-86BF-44A43875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9B8F-AFBB-448B-AA8E-CFE8D2AD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849B-D902-407B-9FC0-69EF64CC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1C3B-4C4D-4E88-AE88-F7C00FF4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236A-C0AC-45A3-99AB-3806ACB5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1905-F17C-4B58-9C54-6BDA1DB8F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kids.pbs.org/dragonflytv/show/fishpopulation.html" TargetMode="Externa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kids.pbs.org/dragonflytv/show/fishpopulation.html" TargetMode="Externa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609480"/>
            <a:ext cx="78487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Broadway"/>
              </a:rPr>
              <a:t>Fish Tale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Broadway"/>
              <a:ea typeface="Broadway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495680" y="51814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onfly TV – Fish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295280" y="4191120"/>
            <a:ext cx="274320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23880"/>
            <a:ext cx="81532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What is the most important fish in this are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 Bluegill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Walley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Bullhea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Black Crapp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How did the figure out how many fish were in the la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Wild gu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Sampling     C.  Asked fishermen      D. Asked b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ich fish population did not increase over the three year stud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 Bluegill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Walley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Bullhea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Black Crapp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 What type of fish did they find for the first t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 Bluegill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Walley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Bullhea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Large Mouth B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380880"/>
            <a:ext cx="990720" cy="932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81080" y="6094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 the movie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3880"/>
            <a:ext cx="81532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What is the most important fish in this are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 Bluegill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Walley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Bullhea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Black Crapp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How did the figure out how many fish were in the la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Wild gu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Sampling     C.  Asked fishermen      D. Asked b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ich fish population did not increase over the three year stud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 Bluegill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Walley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Bullhea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Black Crapp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 What type of fish did they find for the first t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 Bluegill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Walley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Bullhea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Large Mouth B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380880"/>
            <a:ext cx="990720" cy="932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81080" y="6094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 the movie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1981080"/>
            <a:ext cx="1295280" cy="38124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3352680"/>
            <a:ext cx="1676520" cy="38124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724280"/>
            <a:ext cx="1447560" cy="38124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6095880"/>
            <a:ext cx="2361960" cy="38124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10-26T19:32:21Z</dcterms:modified>
  <cp:revision>108</cp:revision>
  <dc:subject/>
  <dc:title>Who am I?</dc:title>
</cp:coreProperties>
</file>