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1308-9229-4295-A66D-0DC4E94A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D171-E09B-48C8-B006-45F73A6F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78DF-6191-4190-88DA-DBBBDEE0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21CF-88E4-4D63-8E61-B99EAA6E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D5FF-C2EA-4C46-882D-DBC55A40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BC6F-7C8D-49E6-AF51-42F73F65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7C72-12E9-40E8-AAB0-36F8BE58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9115-DDA0-4C7C-81BF-5B39C493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75D6-F81A-4DB5-873F-4E4AE7D1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1582-47B6-4AE1-BE93-901EE649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C41F-33B1-4D06-A4B9-9A21EA89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3F6A-5BA5-43FB-B8AC-0AE340D0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96B7-CA26-44CA-81D3-0B4AF678B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eb.1.c2.audiovideoweb.com/1c2web3536/Ep26_FoodMiles_6-23-08.mp3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1066680"/>
            <a:ext cx="80010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Broadway"/>
              </a:rPr>
              <a:t>Dinner Tim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Broadway"/>
              <a:ea typeface="Broadway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05944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tesize Scien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isode 26: Fighting Global Wa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95588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981080"/>
            <a:ext cx="8381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How often should we eat chicken, fish, and vegetables in place of red meat order to help the environ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What causes global warm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How does buying locally grown food help fight against global warm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6094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en to the podcast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ound">
            <a:hlinkClick r:id="rId1"/>
          </p:cNvPr>
          <p:cNvSpPr/>
          <p:nvPr/>
        </p:nvSpPr>
        <p:spPr>
          <a:xfrm>
            <a:off x="457200" y="304920"/>
            <a:ext cx="981000" cy="10573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295280"/>
            <a:ext cx="8381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How often should we eat chicken, fish, and vegetables in place of red meat order to help the environ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What causes global warm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How does buying locally grown food help fight against global warm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6094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86280" y="2209680"/>
            <a:ext cx="3124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ce a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3581280"/>
            <a:ext cx="47242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mful gases trap heat in the 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5089680"/>
            <a:ext cx="670572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cuts down on the travel time of cars and trucks required for delivery, which cuts down on the release of harmful g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10-05T00:43:22Z</dcterms:modified>
  <cp:revision>116</cp:revision>
  <dc:subject/>
  <dc:title>Who am I?</dc:title>
</cp:coreProperties>
</file>