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9CD-83C5-4B3C-B4A8-E6CAC05D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67B-7537-45E7-B224-23975142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95E-4C3D-4808-9001-53627B51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B2B-0EFE-4FC2-A236-795EFB83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C67-F629-4338-9883-F10EA4AC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DFA-4CFB-4BDF-888F-0744F8F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E35-D425-458A-B785-32E2907D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046-20D8-4E66-A2AD-4D2B785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D75-EDEA-4AF8-97D4-37E47DB9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699-C113-4C41-A196-D118E9A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AD9-6818-4211-89C9-AC1CFB8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01C-956F-4A28-9C4F-62B7105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A101-F742-4563-B049-65A75DA0E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1.c2.audiovideoweb.com/1c2web3536/Ep26_FoodMiles_6-23-08.mp3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06668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roadway"/>
              </a:rPr>
              <a:t>Dinner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05944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tesize Scie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sode 26: Fighting Global W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9558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81080"/>
            <a:ext cx="8381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often should we eat chicken, fish, and vegetables in place of red meat order to help the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at causes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buying locally grown food help fight against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 to the podcast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ound">
            <a:hlinkClick r:id="rId1"/>
          </p:cNvPr>
          <p:cNvSpPr/>
          <p:nvPr/>
        </p:nvSpPr>
        <p:spPr>
          <a:xfrm>
            <a:off x="457200" y="304920"/>
            <a:ext cx="981000" cy="1057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295280"/>
            <a:ext cx="8381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often should we eat chicken, fish, and vegetables in place of red meat order to help the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at causes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buying locally grown food help fight against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6280" y="2209680"/>
            <a:ext cx="3124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3581280"/>
            <a:ext cx="4724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mful gases trap heat in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089680"/>
            <a:ext cx="6705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uts down on the travel time of cars and trucks required for delivery, which cuts down on the release of harmful g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05T00:43:22Z</dcterms:modified>
  <cp:revision>116</cp:revision>
  <dc:subject/>
  <dc:title>Who am I?</dc:title>
</cp:coreProperties>
</file>