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343-F282-42C2-8B18-ED6BC51E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BA2-DAE8-46FE-8205-36AD96E3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B77-8544-42C3-A644-0E3A8C9A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414-E59E-436C-B1DE-BCB29204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16E-FE8A-4A6E-9BBD-CED21CB2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EE7-0D51-499B-974E-C084406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7DD-59E6-46D6-8427-E014F076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996-5F37-4F36-8270-EBE7D632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E97C-891F-49B9-8F25-82D2E35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AEE-1191-44F2-85D5-82328589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C58-49E3-4A5E-9F3C-F0A8E35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2E6-FEF1-4958-9273-1C2225AB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CAF-AFC2-464B-9403-2B29D07A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Get several of these $5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Sulfur + Boro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ware of this odorous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+ Sulfur + Nitrogen + Potassium + Ur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se go round and 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Boron + Phosphorus + Hydrogen + Calcium + Sulf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 noisy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Copper + Potass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Get several of these $5 de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Sulfur + Boro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eware of this odorous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assium + Sulfur + Nitrogen + Potassium + Ura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These go round and 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Boron + Phosphorus + Hydrogen +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Sulf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 noisy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Copper + Potass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7840" y="135576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S + B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2924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 + S + N + K +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416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946680"/>
            <a:ext cx="287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B + P + H + Ca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4160" y="4403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UBC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53280" y="5165640"/>
            <a:ext cx="251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 + Cu + K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16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CK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7840" y="1844640"/>
            <a:ext cx="19051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4:10Z</dcterms:modified>
  <cp:revision>31</cp:revision>
  <dc:subject/>
  <dc:title>Slide 1</dc:title>
</cp:coreProperties>
</file>