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F39-AAB8-4997-B58E-F8317926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0D2-1DED-4BD7-B04B-7346F093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318-B15C-4869-9E40-E4BD2B1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4A0-FAB8-4653-9662-1F2898C8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F0E-8BC4-4F7F-881B-403146A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739-3AFA-4361-A1F1-F5D328D8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0D3-DDF3-4E2B-B4FF-A438534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733-E4A1-4DC5-B1D0-83805F9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C0D-1D8E-404C-9B31-30BDCD8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CC6-A858-41B6-8291-77B5166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8B6-EDDF-449D-968C-F9C4CAD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30B-B285-4BF3-9430-48868F6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316C-BBFF-466F-8484-D5CCCFDF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Get several of these $5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Sulfur + Boro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ware of this odorous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+ Sulfur + Nitrogen + Potassium + Ur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se go round and 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Boron + Phosphorus + Hydrogen + Calcium + Sulf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 noisy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Copper + Potass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Get several of these $5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Sulfur + Boro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ware of this odorous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+ Sulfur + Nitrogen + Potassium + Ur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se go round and 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Boron + Phosphorus + Hydrogen +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Sulf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 noisy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Copper + Potass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7840" y="135576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S + B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24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 + S + N + K +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416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946680"/>
            <a:ext cx="287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B + P + H + Ca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4160" y="4403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BC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3280" y="5165640"/>
            <a:ext cx="251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 + Cu + K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16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CK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7840" y="184464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4:10Z</dcterms:modified>
  <cp:revision>31</cp:revision>
  <dc:subject/>
  <dc:title>Slide 1</dc:title>
</cp:coreProperties>
</file>