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80CD-0369-42E7-888E-BC9FBFB3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29E-EF97-42AF-8218-7DC49FC7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518-152D-456F-86A4-F4352C95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8B8-A68B-4E32-9D2D-F731CFB8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910-24B9-45D8-84E0-1BD95B01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C09-3348-41A7-8B5D-829A5DAF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182B-E176-4FBF-8220-345E478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D4C5-6C08-4763-BB3F-DF03C91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FF5-4D46-465F-9B65-758D5391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CE5-5706-4BB0-AEBE-0F6DC387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9BE-7521-4322-97A8-EFD12D4B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B84-C168-4250-8477-11FC1DD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C20C-D12A-4223-B873-34371C51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776" t="4629" r="34027" b="37962"/>
          <a:stretch/>
        </p:blipFill>
        <p:spPr>
          <a:xfrm>
            <a:off x="609480" y="685800"/>
            <a:ext cx="7848720" cy="534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095560" y="5790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#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752480"/>
            <a:ext cx="8686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able Teaser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5308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made with http://www.wordle.net/   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04920"/>
            <a:ext cx="733104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it?  Rearrange the symbols for the elements and use the clues provided to figure out the wo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favorit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mium + Cobalt + Tellurium + Carbo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great place to 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Erbium + Americ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Dracula’s ho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um + Carbon + Fluorine + Oxygen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ry to find the end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Radium + Boron + In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6201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44792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355760"/>
            <a:ext cx="2895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 + Co + Te + C +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812960"/>
            <a:ext cx="19814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CO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62640" y="2651040"/>
            <a:ext cx="2362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 + Er + Am +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7560" y="31082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43560" y="3946680"/>
            <a:ext cx="2400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+ C + F + O +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67560" y="4403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F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6680" y="5165640"/>
            <a:ext cx="2514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 + Ra + B + In +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7560" y="562284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IN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A favorite f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mium + Cobalt + Tellurium + Carbon + Lantha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A great place to l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ium + Erbium + Americium + I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Dracula’s ho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um + Carbon + Fluorine + Oxygen + Fluo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ry to find the end of this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gsten + Radium + Boron + Indium +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2:03:21Z</dcterms:created>
  <dc:creator>Tracy Trimpe</dc:creator>
  <dc:description/>
  <dc:language>en-US</dc:language>
  <cp:lastModifiedBy>Tracy Trimpe</cp:lastModifiedBy>
  <dcterms:modified xsi:type="dcterms:W3CDTF">2008-12-03T23:33:28Z</dcterms:modified>
  <cp:revision>27</cp:revision>
  <dc:subject/>
  <dc:title>Slide 1</dc:title>
</cp:coreProperties>
</file>