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E3E-31DC-4E50-A6FB-642F92AF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A2C-EA06-4BD2-AAA6-566376D0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273-EC8B-4E0C-867A-D06F019A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4C7-4042-48DA-93B5-8FD9B213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C74-B30E-4FE4-B63B-872868BD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16D-FD68-4E8B-BC0E-4CAFF63E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0AF-8874-4C8B-9821-B5932C59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1B9-EAB0-43B3-BEE4-88EDD280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CE1-99DF-4633-8578-A5B53CCD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0C3-081D-4424-B32A-846D28A0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056-7BB2-4800-A874-ACD6B597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8D2-0425-42C6-9134-6D107C3E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8D9-94C5-4368-A68D-7D17D9B60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A favorite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mium + Cobalt + Tellurium + Carbon + Lantha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great place to l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ium + Erbium + Americium + I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Dracula’s ho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um + Carbon + Fluorine + Oxygen + Fluo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Try to find the end of this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gsten + Radium + Boron + Ind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1355760"/>
            <a:ext cx="2895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 + Co + Te + C +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812960"/>
            <a:ext cx="1981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62640" y="2651040"/>
            <a:ext cx="236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 + Er + Am +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67560" y="31082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43560" y="3946680"/>
            <a:ext cx="2400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+ C + F + O +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67560" y="44038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F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86680" y="5165640"/>
            <a:ext cx="2514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+ Ra + B + In +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7560" y="56228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A favorite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mium + Cobalt + Tellurium + Carbon + Lantha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great place to l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ium + Erbium + Americium + I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Dracula’s ho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um + Carbon + Fluorine + Oxygen + Fluo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Try to find the end of this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gsten + Radium + Boron + Ind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33:28Z</dcterms:modified>
  <cp:revision>27</cp:revision>
  <dc:subject/>
  <dc:title>Slide 1</dc:title>
</cp:coreProperties>
</file>