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5E6-3473-4584-A62D-44B1009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3C5-C160-4615-B591-0186F99B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474-676F-4731-815B-E1544E3B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89A-224A-4D67-B4BE-85F1C3D0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AB9-3861-46BE-917C-1AE8CC4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6A3-7F7E-44BF-A235-79A0006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665-7221-4120-891C-E1CE2A2E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62C-9F9E-44B0-80CA-366A7D6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839-A29C-47A0-8FCE-34823C1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7FF-934F-4846-93E0-F2ED362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E23-5AF0-4C75-8949-E2B42C8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EA9-40B6-4260-9FE0-11E6464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FDE-2882-4B21-A756-6F4B837D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thing you do to a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arbon + Potassium + Oxygen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ink Hawai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thanum + Iodine + Darmstadtium + Nitroge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You might take one of these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tassium + Hydrogen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Some people are scared of the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hlo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Tungsten + Sulfur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thing you do to a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arbon + Potassium + Oxygen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ink Hawai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thanum + Iodine + Darmstadtium + Nitroge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You might take one of these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tassium + Hydrogen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Some people are scared of the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hlo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Tungsten + Sulfur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35576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+ C + K + O +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1812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+ I + Ds + N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7560" y="38703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K + H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275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656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l + W + S +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2:58Z</dcterms:modified>
  <cp:revision>25</cp:revision>
  <dc:subject/>
  <dc:title>Slide 1</dc:title>
</cp:coreProperties>
</file>