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6FD-6DA0-49FD-A789-2C39CA13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D75-9FEE-4AC4-A820-F4BCE4B5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9A2D-920A-463B-86E5-33EF1926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05AB-864D-41B0-8964-F819350F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ABCD-F0EB-4408-8F78-A4C200B7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DA0E-0566-450C-88A1-32B68544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210-35FB-41B3-AD14-438ADBC3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208-1D6E-4BAA-81D9-40C6A52B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FC3F-75B2-4D9D-A115-8BE67F10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70E0-0B64-49EB-915A-B179AD07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FDE-A2A4-4B79-BA33-3B66D4F7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B251-CD3A-4D95-8773-D1739E2F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D0AD-D736-4AA2-8F79-11678EAEF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776" t="4629" r="34027" b="37962"/>
          <a:stretch/>
        </p:blipFill>
        <p:spPr>
          <a:xfrm>
            <a:off x="609480" y="685800"/>
            <a:ext cx="7848720" cy="534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095560" y="57909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 #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1752480"/>
            <a:ext cx="86868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able Teaser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made with http://www.wordle.net/  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?  Rearrange the symbols for the elements and use the clues provided to figure out the 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Something you do to a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trogen + Carbon + Potassium + Oxygen + Potass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Think Hawai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thanum + Iodine + Darmstadtium + Nitrogen + Sulf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You might take one of these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bium + Potassium + Hydrogen + I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Some people are scared of the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 + Chlor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Tungsten + Sulfur + Nit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Something you do to a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trogen + Carbon + Potassium + Oxygen + Potass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Think Hawai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nthanum + Iodine + Darmstadtium + Nitrogen + Sulf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You might take one of these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bium + Potassium + Hydrogen + I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Some people are scared of the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 + Chlor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Tungsten + Sulfur + Nit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09480"/>
            <a:ext cx="76201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1355760"/>
            <a:ext cx="236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+ C + K + O +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181296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N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2651040"/>
            <a:ext cx="236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+ I + Ds + N +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310824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67560" y="3870360"/>
            <a:ext cx="2133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 + K + H +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32756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5165640"/>
            <a:ext cx="236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 + Cl + W + S +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562284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W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8-12-03T23:32:58Z</dcterms:modified>
  <cp:revision>25</cp:revision>
  <dc:subject/>
  <dc:title>Slide 1</dc:title>
</cp:coreProperties>
</file>