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779-FF99-4D15-8F1E-0A1C75A6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4A6-30B1-4B3E-A61F-67A0FE34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200-8E2F-41FB-9D84-BA93BCD0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835-BA02-41E3-9A86-6C0FBE08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21C-F4C2-4FBB-9EE8-B224EC54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D46-2005-4109-8863-8BFF93CF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8E0-125B-425B-B695-2C8DA859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3D2-A1AD-4216-A6CC-78837EC4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E2D2-9144-4AEC-95A4-AFB90278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7EBD-2994-47CD-8CA9-FE4BC072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A2A-7DAC-458C-AAC0-92ACC1D9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DDD2-1E72-4112-A54E-909F1E4F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5B83-D81C-40AB-AAC0-967317190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457200" y="1447920"/>
            <a:ext cx="8381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Some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ium+ Lanthanum + Phosp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 large ra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ttrium + Osmium + Rhenium + Phospho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 brother’s s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ngsten + Phosphorus + Neon + Hel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You’d like to have lots of th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on + Yttr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Molybde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7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Some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ium+ Lanthanum + Phosp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 large ra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ttrium + Osmium + Rhenium + Phospho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 brother’s s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ngsten + Phosphorus + Neon + Hel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You’d like to have lots of this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on + Yttr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Molybde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791320" y="135576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 + La +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829480" y="181296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715000" y="2651040"/>
            <a:ext cx="1981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+ Os + Re +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5829480" y="310824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P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5638680" y="387036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 + P + Ne + 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5829480" y="432756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PH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5638680" y="516564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+ Y +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5829480" y="562284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9-01-20T14:58:46Z</dcterms:modified>
  <cp:revision>28</cp:revision>
  <dc:subject/>
  <dc:title>Slide 1</dc:title>
</cp:coreProperties>
</file>