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9214-F226-4E05-962D-BD7E6FA9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3E1C-8F30-486D-A0BE-52E50660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ABA7-E268-421A-89DD-23E6F0C7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C259-BB21-4B21-AA43-D55DED09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80B0-88F7-4061-9AA4-58A096F9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CA48-4D61-4EF1-819B-3A80D251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7A12-1EC8-4BC0-B63D-E35D9EBA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81AE-74CB-44C3-91FC-58E8EDA7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5C20-01BD-4B96-A698-4A514264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B416-6172-484F-BCE4-2B9C423A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44C4-8AE2-4AB7-96EF-E4F2496F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C71D-04CF-4690-932B-57974AD6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2C93-C3A7-4F17-9100-7B72ABE27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1"/>
          <a:srcRect l="2776" t="4629" r="34027" b="37962"/>
          <a:stretch/>
        </p:blipFill>
        <p:spPr>
          <a:xfrm>
            <a:off x="609480" y="685800"/>
            <a:ext cx="7848720" cy="534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095560" y="579096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 #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28600" y="1752480"/>
            <a:ext cx="86868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Table Teaser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65530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made with http://www.wordle.net/  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8"/>
          <p:cNvSpPr/>
          <p:nvPr/>
        </p:nvSpPr>
        <p:spPr>
          <a:xfrm>
            <a:off x="685800" y="304920"/>
            <a:ext cx="733104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it?  Rearrange the symbols for the elements and use the clues provided to figure out the wo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457200" y="1447920"/>
            <a:ext cx="8381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Some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ium+ Lanthanum + Phosp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A large ra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ttrium + Osmium + Rhenium + Phosphor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A brother’s s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ngsten + Phosphorus + Neon + Hel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You’d like to have lots of th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on + Yttr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Molybde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7"/>
          <p:cNvSpPr/>
          <p:nvPr/>
        </p:nvSpPr>
        <p:spPr>
          <a:xfrm>
            <a:off x="457200" y="144792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Some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ium+ Lanthanum + Phosp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A large ra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ttrium + Osmium + Rhenium + Phosphor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A brother’s s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ngsten + Phosphorus + Neon + Hel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You’d like to have lots of this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on + Yttr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Molybde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685800" y="609480"/>
            <a:ext cx="76201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791320" y="135576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 + La +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829480" y="181296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715000" y="2651040"/>
            <a:ext cx="198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+ Os + Re +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5829480" y="310824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SPR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5638680" y="3870360"/>
            <a:ext cx="2133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 + P + Ne + 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5829480" y="432756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PH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5638680" y="5165640"/>
            <a:ext cx="2133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 + Y +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5829480" y="562284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Tracy Trimpe</cp:lastModifiedBy>
  <dcterms:modified xsi:type="dcterms:W3CDTF">2009-01-20T14:58:46Z</dcterms:modified>
  <cp:revision>28</cp:revision>
  <dc:subject/>
  <dc:title>Slide 1</dc:title>
</cp:coreProperties>
</file>