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856-5E1C-48F3-94A4-3BB47F3E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71A-FCBB-4F9A-BE28-BBF9212A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AE5-5B88-4260-8AFB-C7668FD4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EA9-085E-4F6A-B2E7-28622C13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A8C-2A80-4459-B81B-BC550040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B91-FFE0-4283-B646-CA7BB8F2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B77-AB70-4DF0-BDE9-23019FA0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995-F392-44F0-A648-5DEA6881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985-BF7C-4FFD-869F-A2FBFC1D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01C-6DC3-4611-9830-1F76BDA5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6BB0-B847-415D-A2A8-E64D59B4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F2D-ED48-4B6C-921C-9DB73319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784E-C694-48D7-B85D-2D6194504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A holiday dec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ogen + Tungsten + Rhenium +  Asta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ater va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ium + Sulfur + Tellu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ot fir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bolt + Neodymium + Sele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Lemons make you do th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Uranium + Potassium + Phosphorus +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6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A holiday dec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ogen + Tungsten + Rhenium +  Asta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ater vap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ium + Sulfur + Tellu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ot fir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bolt + Neodymium + Sele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Lemons make you do th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Uranium + Potassium + Phosphorus +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67280" y="1432080"/>
            <a:ext cx="2210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 + W + Re +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095880" y="188928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R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495680" y="2879640"/>
            <a:ext cx="167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 + S + 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24480" y="287964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572000" y="4098960"/>
            <a:ext cx="167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 + Nd +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400800" y="40989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248520" y="5029200"/>
            <a:ext cx="2438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 + U + K + P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6591240" y="548640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</cp:lastModifiedBy>
  <dcterms:modified xsi:type="dcterms:W3CDTF">2009-01-09T00:18:56Z</dcterms:modified>
  <cp:revision>21</cp:revision>
  <dc:subject/>
  <dc:title>Slide 1</dc:title>
</cp:coreProperties>
</file>