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318-CA74-4DBA-97A4-651546A3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5E8-E057-4B80-B72E-9BB38A2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FA2-8D71-4093-97FA-03842075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D50-83D1-4936-B19D-032E83C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4FC-44E4-4B62-B837-EE99EE1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628-C145-4ADF-8109-B482DD26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EC3-B9D9-4A37-9540-C431554D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D6A-D5DF-4FD5-ABA8-AE1FBCD6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1D7-0BFA-4039-B814-040CA77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FAD-AFAE-40C2-8C06-CB6C95B1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8A1-C8B5-4CC6-817E-352790C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7B6-6AB4-4337-9E7F-01D4626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45F-F082-42B8-9007-B85C1A84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holiday dec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+ Tungsten + Rhenium +  Asta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ater va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ium + Sulfur + 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ot fir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t + Neodymium + Sel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Lemons make you do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Uranium + Potassium + Phosphorus +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6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holiday dec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+ Tungsten + Rhenium +  Asta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ater va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ium + Sulfur + 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ot fir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t + Neodymium + Sel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Lemons make you do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Uranium + Potassium + Phosphorus +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7280" y="1432080"/>
            <a:ext cx="221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+ W + Re +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5880" y="188928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495680" y="287964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 + S + 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24480" y="287964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572000" y="409896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 + Nd +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400800" y="40989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248520" y="5029200"/>
            <a:ext cx="2438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U + K + P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591240" y="548640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</cp:lastModifiedBy>
  <dcterms:modified xsi:type="dcterms:W3CDTF">2009-01-09T00:18:56Z</dcterms:modified>
  <cp:revision>21</cp:revision>
  <dc:subject/>
  <dc:title>Slide 1</dc:title>
</cp:coreProperties>
</file>