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1C1-A4BC-4A02-9857-6E47FE80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E9E-00BD-4C25-925C-C8E622DE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AE7-6CC9-4338-937C-8A03C207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FB2-4D8D-4AA4-AD60-D99FC4BA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F82-E607-4985-8680-492B6D34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854-A34A-49E0-92D4-FA8E40CC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43E-B726-495F-A680-12D485D3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9E3-0601-4F87-B7D4-FCEC092C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4A3-0FFB-4EC0-995D-7D322EB3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FFB-434F-40F7-8E5C-A8829A67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813-B06D-4542-BC94-3ACBBBC8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B22-E852-41E3-8CAC-40E678CA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E9D6-6839-4C3C-9B25-6DCAD736E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hirt and 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Einsteinium + Chlorine + Tho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small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anium + Actinium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u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 bone in your le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on + Uranium + Iodine + Lanthanum + Fluo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place full of silicon dioxi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nium + Beryllium +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5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hirt and 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Einsteinium + Chlorine + Tho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small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anium + Actinium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u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 bone in your le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on + Uranium + Iodine + Lanthanum + Fluo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place full of silicon dioxi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nium + Beryllium +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67280" y="1371600"/>
            <a:ext cx="2210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+ Es + Cl + 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095880" y="182880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T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495680" y="2819520"/>
            <a:ext cx="167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 + Ac + 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24480" y="281952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172200" y="3809880"/>
            <a:ext cx="2438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+ U + I + La +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515280" y="42670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572000" y="5257800"/>
            <a:ext cx="1600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+ Be +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6324480" y="525780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</cp:lastModifiedBy>
  <dcterms:modified xsi:type="dcterms:W3CDTF">2012-04-25T14:51:26Z</dcterms:modified>
  <cp:revision>17</cp:revision>
  <dc:subject/>
  <dc:title>Slide 1</dc:title>
</cp:coreProperties>
</file>