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438-1B2C-4EBA-98E2-32BABB22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E48-DC17-4D5A-A344-D812B090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757-91AF-4238-AC91-CE28AE31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0B9-7FA8-4E29-9FCD-F1B24F5E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16F-9BC3-4711-85E4-675E9C15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E78-8C2B-4A58-9677-1FF8CF43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A86-77DF-429C-B05C-C01FA881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428-1E24-4A5F-9FB1-7EC54684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96D-90E0-4BC4-B956-37619BE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7EF-5B7A-48A8-8227-F685FD1D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748-A0AC-4826-9A1F-26BBCD3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64B-81D9-4AE4-AB0C-974172A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D713-419D-47AF-9FFD-2033DC2A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scistartlogo2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hirt and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Einsteinium + Chlorine + Tho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smal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Actinium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one in your le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on + Uranium + Iodine + Lanthanum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place full of silicon diox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nium + Beryllium +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5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Shirt and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Einsteinium + Chlorine + Tho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small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anium + Actinium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u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 bone in your le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on + Uranium + Iodine + Lanthanum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A place full of silicon diox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nium + Beryllium +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7280" y="1371600"/>
            <a:ext cx="2210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Es + Cl + 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095880" y="182880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495680" y="2819520"/>
            <a:ext cx="167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+ Ac + 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24480" y="281952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72200" y="3809880"/>
            <a:ext cx="2438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+ U + I + La +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515280" y="42670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572000" y="5257800"/>
            <a:ext cx="160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 + Be +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6324480" y="525780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</cp:lastModifiedBy>
  <dcterms:modified xsi:type="dcterms:W3CDTF">2012-04-25T14:51:26Z</dcterms:modified>
  <cp:revision>17</cp:revision>
  <dc:subject/>
  <dc:title>Slide 1</dc:title>
</cp:coreProperties>
</file>