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4C7-4419-487B-BBE7-25481F6B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393-9A6F-47D4-B8F2-4B20EEC9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8FF-2E93-4CBB-B4F3-0133D2D1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EA5-EE1E-4AE3-A5E7-A8CAA67B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C08-163D-4E14-A787-8E164F9B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CE9-C4FA-40FC-8283-1FB4EAB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7D7-4D06-44DE-95F4-5C39AB5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E6D-CD01-4335-800C-FC6956B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DE5-EAB0-4942-872D-A247D87F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101-4851-4328-930E-006BE229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C6F-6E7A-4BCA-8F3D-5672D3DA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107-C753-4C80-A92E-DFA9E56B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6480-25BC-4D1D-BDA2-3F0B2CB6E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You need this to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+ Titanium + Rh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You or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fur + Nitrogen + Phosphorous + Oxygen + Er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Vacatio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Indium + Bo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on’t gamble on this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lonium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You need this to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dium + Titanium + Rhen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You or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lfur + Nitrogen + Phosphorous + Oxygen + Erb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Vacatio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Indium + Bo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on’t gamble on this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bium + Polonium +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16002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 + Ti + 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16002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2514600"/>
            <a:ext cx="2286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+ N + P + O +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5280" y="29718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4114800"/>
            <a:ext cx="1904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 + In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41148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8520" y="5029200"/>
            <a:ext cx="2133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 + Po +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548640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0:38Z</dcterms:modified>
  <cp:revision>15</cp:revision>
  <dc:subject/>
  <dc:title>Slide 1</dc:title>
</cp:coreProperties>
</file>