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6A3-928A-4778-B294-9BD39DDB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C58-DFDA-40BF-8358-C9E95989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0C3-94A5-4EB7-A499-9D1D2CC9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93C-1B2F-4FDA-B2C4-C33C0629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92B-1382-4FCE-86EA-BEC3B5BB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19B-487D-458B-9411-4114AA0E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324-BD85-4F64-9358-08620387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DF9-B346-4D33-B3A7-9C2ABD03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117-A132-4467-8FEA-16022623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03F-782C-4E31-8684-D57F4288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087-3F8D-4DB6-ACE4-22D1C6BD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86C-057D-40C2-863F-2A3AA5F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1BA9-CABB-4457-A7A3-B005A8D87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You need this to se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dium + Titanium + Rhe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You or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lfur + Nitrogen + Phosphorous + Oxygen + Erb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Vacation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ium + Indium + Bo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Don’t gamble on this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Polonium +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44792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You need this to se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dium + Titanium + Rhe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You or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lfur + Nitrogen + Phosphorous + Oxygen + Erb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Vacation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ium + Indium + Bo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Don’t gamble on this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Polonium +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160020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+ Ti + 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160020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2514600"/>
            <a:ext cx="2286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+ N + P + O +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5280" y="297180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4114800"/>
            <a:ext cx="1904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 + In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11480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5029200"/>
            <a:ext cx="2133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 + Po +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548640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30:38Z</dcterms:modified>
  <cp:revision>15</cp:revision>
  <dc:subject/>
  <dc:title>Slide 1</dc:title>
</cp:coreProperties>
</file>