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168-E96A-48B8-AA57-1D8C94CE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F67-32E2-41C5-9B1C-4948BEF3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02E-AC2F-4B2C-B264-9728B1C4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9C2-39F8-4251-A51C-B2EC7460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1A3-4B40-4FE7-A105-621B94A6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E0D-977C-44D7-B1CE-02082BCC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62E-F2CF-4F62-8D99-D71E17C1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E95-1E30-4886-BB1E-0B04A65B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CAA-CF14-4F51-82EE-BE1E8893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44E8-C614-482A-9EF7-DCEFD681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EE4-430F-41AA-BF7E-C9DE3A76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1CC-EA33-4389-B498-A922961C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08FD-D81E-4939-A48A-6E08205C8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0804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Sir Lancelot had one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ium + Nitrogen + Lantha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Something to sol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nium + Cal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Beware of this large mamm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bium + Oxygen + Rhodium + Osmium + Carbon + In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This might make you think of the mo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on + Nitrogen + Lute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0804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Sir Lancelot had one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ium + Nitrogen + Lantha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Something to sol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nium + Cal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Beware of this large mamm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bium + Oxygen + Rhodium + Osmium + Carbon + In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This might make you think of the mo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on + Nitrogen + Lute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16606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 + N +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16606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2803680"/>
            <a:ext cx="1600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 +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2803680"/>
            <a:ext cx="14479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3809880"/>
            <a:ext cx="3581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 + O + Rh + Os + C +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72280" y="4708440"/>
            <a:ext cx="2590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HINOC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5638680"/>
            <a:ext cx="1600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 + N + 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56386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12-03T23:29:13Z</dcterms:modified>
  <cp:revision>14</cp:revision>
  <dc:subject/>
  <dc:title>Slide 1</dc:title>
</cp:coreProperties>
</file>