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265-D8CC-4D87-8CD5-FA3999D7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3CD-0B98-4C91-9872-635F6F7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DE4-1651-4BCC-852F-2C3C6020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D3A-DACB-4654-8E00-22FA073F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CA8-7359-4403-830E-0FED06AB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311-1230-42E1-8990-F540770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745-F4B7-4F61-A925-826F7E50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8E5-97B0-410D-954F-3F91F8C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0C3-1F2D-4C7C-8DCF-5C1B37A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FD1-C925-4203-BF34-CB39D0A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7C3-BC02-49EE-AB82-FF0CD42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C28-F1BC-412D-B22C-CEADCEA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8DF-0929-4144-83F5-E9764D654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0804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ir Lancelot had on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Nitroge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omething to sol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nium +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Beware of this large mamm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Oxygen + Rhodium + Osmium + Carbon + In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This might make you think of the m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on + Nitrogen + Lute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0804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ir Lancelot had on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Nitroge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Something to sol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nium +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Beware of this large mamm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Oxygen + Rhodium + Osmium + Carbon + In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This might make you think of the mo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on + Nitrogen + Lute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1660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N +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660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280368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 +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803680"/>
            <a:ext cx="1447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809880"/>
            <a:ext cx="3581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O + Rh + Os + C +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72280" y="4708440"/>
            <a:ext cx="2590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HINO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63868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 + N + 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56386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29:13Z</dcterms:modified>
  <cp:revision>14</cp:revision>
  <dc:subject/>
  <dc:title>Slide 1</dc:title>
</cp:coreProperties>
</file>