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EECA-2B05-41CF-BDED-BA793FBC4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0BC6-2D0D-4484-B342-630FFC03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9902-F9EC-4A2A-8E30-A60BFA49A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D44F-453B-474B-9539-712C95478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1BF4-D741-474E-8DB9-5394D66D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81F3-98D1-4752-A385-60B0E545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BA71-1991-43B3-AF6B-1503B750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C6D6-2BD0-44FD-8D3E-2BBA072E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B2B2-02AA-4F85-879C-635DE906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114C-6952-4309-8FD8-8305F916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2184-1C26-4414-A66B-67C058DD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CC6E-CF14-43D6-A6E1-BC0D59D6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54D0-AE8A-4467-9323-678BCEC47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776" t="4629" r="34027" b="37962"/>
          <a:stretch/>
        </p:blipFill>
        <p:spPr>
          <a:xfrm>
            <a:off x="609480" y="685800"/>
            <a:ext cx="7848720" cy="5346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095560" y="5790960"/>
            <a:ext cx="4952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llenge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8600" y="1752480"/>
            <a:ext cx="86868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Table Teasers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55308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made with http://www.wordle.net/   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304920"/>
            <a:ext cx="7331040" cy="825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it?  Rearrange the symbols for the elements and use the clues provided to figure out the wor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447920"/>
            <a:ext cx="8915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447920"/>
            <a:ext cx="8381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 Something to follow      Thorium  +  Protactinium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 You’ll want to be first!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rium + Ra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 Masked band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trogen + Cobalt + Radium + 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 Not anybod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xygen + Boron + Dysprosium + Nitrogen + 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Beware of this snake!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xygen + Carbon + Boron + Ra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010280" y="1295280"/>
            <a:ext cx="17528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 + 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10280" y="1752480"/>
            <a:ext cx="17528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762120"/>
            <a:ext cx="762012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1447920"/>
            <a:ext cx="8915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447920"/>
            <a:ext cx="8381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 You’ll want to be first!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rium + Ra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 Masked band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trogen + Cobalt + Radium + 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 Not anybod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xygen + Boron + Dysprosium + Nitrogen + 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Beware of this snake!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xygen + Carbon + Boron + Ra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52680" y="2133720"/>
            <a:ext cx="17528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e + 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81480" y="2133720"/>
            <a:ext cx="17528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86400" y="3108240"/>
            <a:ext cx="2057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 + Co + Ra +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38680" y="3565440"/>
            <a:ext cx="17528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C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72200" y="4403880"/>
            <a:ext cx="24382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 + B + Dy + N +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15280" y="4861080"/>
            <a:ext cx="1752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5927760"/>
            <a:ext cx="21337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 + C + B + 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5927760"/>
            <a:ext cx="1752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02:03:21Z</dcterms:created>
  <dc:creator>Tracy Trimpe</dc:creator>
  <dc:description/>
  <dc:language>en-US</dc:language>
  <cp:lastModifiedBy>Tracy Trimpe</cp:lastModifiedBy>
  <dcterms:modified xsi:type="dcterms:W3CDTF">2008-12-03T23:26:41Z</dcterms:modified>
  <cp:revision>12</cp:revision>
  <dc:subject/>
  <dc:title>Slide 1</dc:title>
</cp:coreProperties>
</file>