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E90-3E6B-449E-9478-3805E37C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62E-2EF1-46C7-8581-535A4477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319-CDE9-4C13-9404-EF0ABB74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400-2B51-4B43-851C-FE831E7B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50D-31C3-41AD-B07C-8A14BDDF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D28-0AC2-4C18-A2B9-7527ECCE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BC7-CA4D-49DE-8B49-21B151B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BEF-B4D7-4159-9C54-F71EA9D1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444-0895-4DCC-8E07-5ED6BFA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DD3-9935-4355-9873-D9C27AF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7EF-B12C-450F-890B-742E157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984-6B46-40AD-9722-702660CA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0452-815D-4CBE-BE56-6E2D6A22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Something to follow      Thorium  +  Protactiniu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You’ll want to be first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asked ban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obalt + Ra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Not any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Boron + Dysprosium + Nitro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Beware of this snak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Boron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129528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 +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75248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You’ll want to be first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asked ban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obalt + Ra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Not any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Boron + Dysprosium + Nitro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Beware of this snak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Boron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213372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 +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213372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10824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+ Co + Ra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356544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C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403880"/>
            <a:ext cx="2438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B + Dy + N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5280" y="48610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92776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C + B + 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9277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26:41Z</dcterms:modified>
  <cp:revision>12</cp:revision>
  <dc:subject/>
  <dc:title>Slide 1</dc:title>
</cp:coreProperties>
</file>