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CFF-74A2-421D-973A-23E420FF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2FD-A584-4993-A723-439BD185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6EB-EE1F-4770-B132-03A641D6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244-E1DD-4332-B45E-5AE677E4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CE6-23DF-47E8-8B3B-DEAE19C5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1D4-03A3-409A-A243-24AB53D0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35E-EE65-4E6D-848C-6B7AC367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F97-0038-4ACA-9B93-40E99492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B5E-E558-4667-9184-6270E311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4409-11C8-4A7D-A083-D2862E7A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9AA-E7A3-4F55-91EF-AEDCCFA1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804-D675-4190-B7F4-1BF4B25F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E0FE-1234-4C07-9099-0E4923C78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Periodic Ta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your knowledge of the relationships in the periodic table to answer each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371600"/>
          <a:ext cx="2514600" cy="210816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971800" y="1371600"/>
            <a:ext cx="5486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f Element D has 14 protons, how many would an atom of Element F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Element H has 3 valance electrons, how many would Element C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f Element I has 4 energy  levels, how many would Element B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Element C has 22 electrons, how many would Element 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If Element F has 4 valence electrons, how many would Element G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361944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te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1980720" cy="1752120"/>
        </p:xfrm>
        <a:graphic>
          <a:graphicData uri="http://schemas.openxmlformats.org/drawingml/2006/table">
            <a:tbl>
              <a:tblPr/>
              <a:tblGrid>
                <a:gridCol w="659880"/>
                <a:gridCol w="660240"/>
                <a:gridCol w="660600"/>
              </a:tblGrid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8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8153280" y="144792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53280" y="238428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332100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53280" y="425772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53280" y="519588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1371600"/>
            <a:ext cx="5486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f Element D has 14 protons, how many would an atom of Element F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Element H has 3 valance electrons, how many would Element C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f Element I has 4 energy  levels, how many would Element B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Element C has 22 electrons, how many would Element 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If Element C has 4 valence electrons, how many would Element G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6:21:24Z</dcterms:modified>
  <cp:revision>30</cp:revision>
  <dc:subject/>
  <dc:title>Slide 1</dc:title>
</cp:coreProperties>
</file>