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308-D98B-4263-B56D-1B22AA0B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573-24B2-4FD6-84AE-DA6BA10B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725-983E-4A86-AD30-BD9ABAB5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287-A476-4DD4-B312-4F8F8C69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589-3FAC-4ABB-9BAB-AA00E635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E8A-8CFD-40D1-8565-95B2C1E5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834-B6CA-4FCB-9546-EF58C824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834-9E1F-4376-90ED-AB8E8768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692-B077-4E3B-BC45-3F90245A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1F1-7518-47B2-9FCA-41EA0527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FC6-2058-477A-B0AD-D32566CD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3E8-0EB5-4E49-B1CA-AF59B8C8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317B-3F58-4C9E-A552-B53CAEE05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Periodic Tabl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32763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your knowledge of the relationships in the periodic table to answer each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1371600"/>
          <a:ext cx="2514600" cy="210816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971800" y="1371600"/>
            <a:ext cx="5486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f Element D has 14 protons, how many would an atom of Element F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f Element H has 3 valance electrons, how many would Element C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f Element I has 4 energy  levels, how many would Element B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Element C has 22 electrons, how many would Element 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If Element F has 4 valence electrons, how many would Element G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361944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ter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371600"/>
          <a:ext cx="1980720" cy="1752120"/>
        </p:xfrm>
        <a:graphic>
          <a:graphicData uri="http://schemas.openxmlformats.org/drawingml/2006/table">
            <a:tbl>
              <a:tblPr/>
              <a:tblGrid>
                <a:gridCol w="659880"/>
                <a:gridCol w="660240"/>
                <a:gridCol w="660600"/>
              </a:tblGrid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8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8153280" y="144792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153280" y="238428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332100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53280" y="425772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53280" y="519588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1371600"/>
            <a:ext cx="5486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f Element D has 14 protons, how many would an atom of Element F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f Element H has 3 valance electrons, how many would Element C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f Element I has 4 energy  levels, how many would Element B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Element C has 22 electrons, how many would Element 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If Element C has 4 valence electrons, how many would Element G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6:21:24Z</dcterms:modified>
  <cp:revision>30</cp:revision>
  <dc:subject/>
  <dc:title>Slide 1</dc:title>
</cp:coreProperties>
</file>