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8C1-CD3A-49EF-8689-C7DCC7A7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43A-D398-41C8-9A88-D10A1137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C7A-717E-413C-90B3-0D56DD40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DF3-E3B9-4D11-91EC-42AA1398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FA5-C402-4DCB-BA4C-2C7B5AE0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F63-6F31-453D-AE62-D1A79CE9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23C-AE15-4452-BF9B-9681F30D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8A9-2CF2-469D-9455-DDBCDEA2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719-2AFA-49B7-BFFF-563ACBAA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99B-BBC7-4616-990C-A36D6825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727-1F73-4D7A-A1EF-4231953D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9F9-5CA9-4AB7-ADEB-59F22E70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95C3-469F-432C-82BC-FCE5DC7C3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Periodic Ta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your knowledge of the relationships in the periodic table to answer each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600200"/>
          <a:ext cx="2514600" cy="210816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3276720" y="1600200"/>
            <a:ext cx="5486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f Element B has 14 protons, how many would an atom of Element C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Element G has 3 valance electrons, how many would Element 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f Element I has 3 energy  levels, how many would Element F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Element D has 22 electrons, how many would Element F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If Element E has 4 valence electrons, how many would Element I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4280" y="3809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tery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447920"/>
          <a:ext cx="1905120" cy="15523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209680" y="1371600"/>
            <a:ext cx="60199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f Element B has 14 protons, how many would an atom of Element C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If Element G has 3 valance electrons, how many would Element A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f Element I has 3 energy  levels, how many would Element F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Element D has 22 electrons, how many would Element F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If Element E has 4 valence electrons, how many would Element I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53280" y="144792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53280" y="238428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53280" y="332100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53280" y="425772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153280" y="5195880"/>
            <a:ext cx="8384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6:05:44Z</dcterms:modified>
  <cp:revision>28</cp:revision>
  <dc:subject/>
  <dc:title>Slide 1</dc:title>
</cp:coreProperties>
</file>