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F47-2D93-4276-9EAB-F2A7362C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567-7287-415A-B9AC-087A9EC1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BA8-98EB-4CBF-A4A9-E5F970BE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F80-0EF4-465B-A2AF-DEA361AD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7C5-F9FF-4FA0-BBE7-44FADE4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5DC-2B1F-4F4D-A1DD-AA5E313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EEB-89D0-45F6-8F13-0EB7195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7FC-A234-4D0D-BACD-BACB471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86A-80FE-4C46-8E7C-4342A5E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2CF-0C6B-4740-AC3A-16C1DB9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9AA-6CC7-40CB-9DC2-EB74C3B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8C0-81D3-46A1-AACD-B3DD65B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C6A-CB54-4545-A61C-841C0D79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your knowledge of the relationships in the periodic table to 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600200"/>
          <a:ext cx="2514600" cy="210816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276720" y="16002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B has 14 protons, how many would an atom of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G has 3 valance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3 energy  level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D has 22 electron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E has 4 valence electrons, how many would Element I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4280" y="3809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te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447920"/>
          <a:ext cx="1905120" cy="15523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09680" y="1371600"/>
            <a:ext cx="6019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B has 14 protons, how many would an atom of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G has 3 valance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3 energy  level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D has 22 electron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E has 4 valence electrons, how many would Element I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14479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23842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332100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42577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51958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05:44Z</dcterms:modified>
  <cp:revision>28</cp:revision>
  <dc:subject/>
  <dc:title>Slide 1</dc:title>
</cp:coreProperties>
</file>