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2A9-8322-4091-AFD2-DE5BBD2D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799-35B7-489F-95F8-3279AEA2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270-552E-4714-9389-6D0968FB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9D1E-47F8-4EC3-B3EA-18D873B1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3B7-4AD1-41BD-9026-3EC8D7C0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936-2A73-48BB-B338-900E254E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091-A5DD-4F55-B053-14DC8AE1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BA7-1A5D-420B-832E-0F5E66D2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42F-D2F9-46D9-A0ED-2DACA272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D11-DF1D-49A1-BA3B-8214BBDC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1D7-5AD5-4E52-B63C-CF2FDA0F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8547-C9D3-4D3A-A15F-67975C6D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F765-1A40-4FD2-985F-F4618CFCF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Periodic Tabl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32763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a periodic table and your knowledge of 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ment families to identify each element by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371600"/>
            <a:ext cx="876312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am a Noble Gas that is found in the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am a member of the Alkaline Earth family and have 88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am a transition metal that is a liquid at room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am a member of the Carbon family that is found in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am a Halide that is a gas at room temperature and have 3 energy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228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153828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260496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38880" y="367200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38880" y="473868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580536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lo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371600"/>
            <a:ext cx="678168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am a Noble Gas that is found in the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am a member of the Alkaline Earth family and have 88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am a transition metal that is a liquid at room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am a member of the Carbon family that is found in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am a Halide that is a gas at room temperature and have 3 energy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6:20:42Z</dcterms:modified>
  <cp:revision>34</cp:revision>
  <dc:subject/>
  <dc:title>Slide 1</dc:title>
</cp:coreProperties>
</file>