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D1E-F0B3-4D5D-9406-912AE248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C5E-19E5-4D9F-BAA3-A39DDD5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8BF-4095-4190-9974-73D9979C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9E6-32CF-4A08-BA54-AE91C63E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A3B-D610-4A30-AC0C-38195853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47D-9000-4C89-996B-DB4A61D3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2A3-1804-4C61-BEA3-CD123F3F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1B8-A133-4144-A2F4-21276A1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83A8-66CF-4EC6-8EAF-7A58C728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9640-5C95-4EAC-9B76-B0C62E1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443-D3F2-4457-BD64-E377349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A8E-4649-485D-B39C-094C1CEE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C432-1406-4B8A-9334-83BA9852C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periodic table and your knowledge of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families to identify each element b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7631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Noble Gas that is found in th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have 88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transition metal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member of the Carbon family that is found i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Halide that is a gas at room temperature and have 3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538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8880" y="260496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367200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38880" y="47386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580536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lo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371600"/>
            <a:ext cx="678168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Noble Gas that is found in th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have 88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transition metal that is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member of the Carbon family that is found i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Halide that is a gas at room temperature and have 3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6:20:42Z</dcterms:modified>
  <cp:revision>34</cp:revision>
  <dc:subject/>
  <dc:title>Slide 1</dc:title>
</cp:coreProperties>
</file>