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323E-D1AD-4C62-9A63-B32BE65B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402-DB44-448B-B48F-99CC63C9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969-9E9F-40CF-99EB-6D907BEF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6BE7-E202-4D97-BABA-8C0D9469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8118-3B96-4B18-8705-A358E541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29C5-0881-4F58-B7BA-13576EE7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5129-2E19-449F-B5D8-3A2B12F2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67A7-B58B-4D0F-8AAA-B3D33F7B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DEF-5686-459D-AB4A-F274AA46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9333-7721-4A6A-A67D-9EBA65BB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DADB-40D2-41A1-B5D6-A2A60C34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AB54-06AB-442C-8D35-ABF7F7C4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7402-1559-452C-A3BD-E82627CA4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181480" y="556236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28600" y="838080"/>
            <a:ext cx="86868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Periodic Tabl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3" name="Rectangle 15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6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WordArt 17"/>
          <p:cNvSpPr txBox="1"/>
          <p:nvPr/>
        </p:nvSpPr>
        <p:spPr>
          <a:xfrm>
            <a:off x="4114800" y="320040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Basic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pic>
        <p:nvPicPr>
          <p:cNvPr id="46" name="Picture 19" descr="j0387697"/>
          <p:cNvPicPr/>
          <p:nvPr/>
        </p:nvPicPr>
        <p:blipFill>
          <a:blip r:embed="rId2"/>
          <a:stretch/>
        </p:blipFill>
        <p:spPr>
          <a:xfrm>
            <a:off x="304920" y="3352680"/>
            <a:ext cx="32763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28600" y="2286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a periodic table and your knowledge of th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ment families to identify each element by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1"/>
          <p:cNvSpPr/>
          <p:nvPr/>
        </p:nvSpPr>
        <p:spPr>
          <a:xfrm>
            <a:off x="228600" y="1371600"/>
            <a:ext cx="861048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am a member of the Halide family and am a liquid at room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am a member of the Alkaline Earth family and would have 4 energy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am a member of the Nitrogen family that is gas at room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am a transition metal with 110 neu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am a member of the Oxygen family with 16 protons and 16 neu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28600" y="228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28600" y="1371600"/>
            <a:ext cx="678168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I am a member of the Boron family and am a liquid at room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I am a member of the Alkaline Earth family and would have 4 energy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I am a member of the Nitrogen family that is gas at room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I am a transition metal with 110 neu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I am a member of the Oxygen family with 16 protons and 16 neu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238880" y="153828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7238880" y="250524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7238880" y="347328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7238880" y="458640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ng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7238880" y="5410080"/>
            <a:ext cx="15242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</cp:lastModifiedBy>
  <dcterms:modified xsi:type="dcterms:W3CDTF">2010-12-10T16:26:39Z</dcterms:modified>
  <cp:revision>32</cp:revision>
  <dc:subject/>
  <dc:title>Slide 1</dc:title>
</cp:coreProperties>
</file>