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AD7-DEA1-45EB-93CC-90ACBDAA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A44-4138-4EF1-BC24-FA1CC5DB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389-7BE4-4373-A291-EA4B9185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63C-036F-4C44-9527-A9547F5F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C25-D27C-4052-9EA5-5947152A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AA5-CA93-4D2E-A8AE-0F38E5B9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4DF-E399-4A35-9873-5A517088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EF5-EF67-42E4-B647-42E4412A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05D-33CC-4CE5-AABE-60975420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942-2FE5-4436-BD14-CA4351B0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ABE-DC6A-49BB-AA83-3171E64D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F94-7C44-4BB7-A2EA-2651C29B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17B0-423B-4624-902B-953BCAE38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Periodic Ta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6" name="Picture 19" descr="j0387697"/>
          <p:cNvPicPr/>
          <p:nvPr/>
        </p:nvPicPr>
        <p:blipFill>
          <a:blip r:embed="rId2"/>
          <a:stretch/>
        </p:blipFill>
        <p:spPr>
          <a:xfrm>
            <a:off x="304920" y="3352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2860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a periodic table and your knowledge of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 families to identify each element b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"/>
          <p:cNvSpPr/>
          <p:nvPr/>
        </p:nvSpPr>
        <p:spPr>
          <a:xfrm>
            <a:off x="228600" y="1371600"/>
            <a:ext cx="86104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member of the Halide family and am a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a member of the Alkaline Earth family and would have 4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a member of the Nitrogen family that is gas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am a transition metal with 110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m a member of the Oxygen family with 16 protons and 16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2860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1371600"/>
            <a:ext cx="67816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member of the Boron family and am a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a member of the Alkaline Earth family and would have 4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a member of the Nitrogen family that is gas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am a transition metal with 110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m a member of the Oxygen family with 16 protons and 16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238880" y="15382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238880" y="250524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238880" y="34732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238880" y="458640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ng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7238880" y="54100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</cp:lastModifiedBy>
  <dcterms:modified xsi:type="dcterms:W3CDTF">2010-12-10T16:26:39Z</dcterms:modified>
  <cp:revision>32</cp:revision>
  <dc:subject/>
  <dc:title>Slide 1</dc:title>
</cp:coreProperties>
</file>