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DEF4-AE40-4FCE-8438-3681A31F4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8109-F30E-40DA-B6F1-8745584C9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FB0F-DE3F-491D-AF1A-3E0884F14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AE87-FFCA-4311-87C7-BE5B9A87E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8447-9C68-43BA-9CCD-99F0EFC9A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C635-8CE7-410C-A20E-BFC3CCED9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CCD6-B5A1-4225-9408-520A28244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5B78-5071-4F37-ACBA-54436E235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F8C5-6C91-48E1-B290-6905F3FF0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8F1E-C669-4D8F-9623-21360C0A5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1AB1-E136-4149-85F4-F82F7430A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A562-84D9-44EF-BBA6-E786D789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E06F7-5BC2-4356-9695-A366700A49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181480" y="5562360"/>
            <a:ext cx="2819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Challen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28600" y="838080"/>
            <a:ext cx="86868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Cooper Black"/>
              </a:rPr>
              <a:t>Periodic Tabl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Cooper Black"/>
              <a:ea typeface="Cooper Black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114800" y="3200400"/>
            <a:ext cx="44956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Cooper Black"/>
              </a:rPr>
              <a:t>Basics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Cooper Black"/>
              <a:ea typeface="Cooper Black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04920" y="3352680"/>
            <a:ext cx="3276360" cy="23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2286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 a periodic table and your knowledge of th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ement families to identify each element by n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1371600"/>
            <a:ext cx="861048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I am a member of the Carbon family with 14 electr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I am a member of the Alkaline Earth family and would have 6 energy leve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I am a halide that is a liquid at room tempera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I am a transition metal with 79 prot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I am a member of the Alkali Metal family with 20 neutr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8600" y="2286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1371600"/>
            <a:ext cx="7315200" cy="48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I am a member of the Carbon family with 14 electr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I am a member of the Alkaline Earth family and would have 6 energy leve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I am a halide that is a liquid at room tempera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I am a transition metal with 79 prot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I am a member of the Alkali Metal family with 20 neutr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467480" y="1538280"/>
            <a:ext cx="152424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li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467480" y="2529000"/>
            <a:ext cx="152424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467480" y="3595680"/>
            <a:ext cx="152424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om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467480" y="4510080"/>
            <a:ext cx="152424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315200" y="5805360"/>
            <a:ext cx="167652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tass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00:06:52Z</dcterms:created>
  <dc:creator>Tracy Trimpe</dc:creator>
  <dc:description/>
  <dc:language>en-US</dc:language>
  <cp:lastModifiedBy>Tracy Trimpe</cp:lastModifiedBy>
  <dcterms:modified xsi:type="dcterms:W3CDTF">2008-11-19T15:42:48Z</dcterms:modified>
  <cp:revision>32</cp:revision>
  <dc:subject/>
  <dc:title>Slide 1</dc:title>
</cp:coreProperties>
</file>