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5E9-A76A-469B-B5A5-20D4A409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C26-1513-406D-8C5B-43926DFF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C57-8AEA-4C10-98A7-C63A5C61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847-7483-4F0B-A027-6F04C6F3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473-3E37-4454-A87D-FCB6E732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00F-D382-4E8B-B22C-71D8FA1A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1FD-A01B-48F7-AED3-DFD6B9B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640-AB70-4B33-9F1E-C90F014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542-A6DB-433E-9E44-F6EC86E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7C0-D063-4B12-94B5-352F1F42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419-9AF9-44BF-BADD-C9AE182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30E-AA74-41EF-B28F-BA0E292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9ECB-81C2-410B-A59A-3D88F9F62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 periodic table and your knowledge of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 families to identify each element b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86104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member of the Carbon family with 14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would have 6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halide that is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transition metal with 79 pro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member of the Alkali Metal family with 20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371600"/>
            <a:ext cx="73152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member of the Carbon family with 14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would have 6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halide that is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transition metal with 79 pro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member of the Alkali Metal family with 20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15382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252900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35956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45100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805360"/>
            <a:ext cx="16765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11-19T15:42:48Z</dcterms:modified>
  <cp:revision>32</cp:revision>
  <dc:subject/>
  <dc:title>Slide 1</dc:title>
</cp:coreProperties>
</file>