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85A-8674-4E8D-9901-B9E80941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77A-3774-4640-9C02-8E73984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44D-81F2-4E1C-B8AE-59CB6DB6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D1A-D38C-4ACB-8904-2B8BA3BA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EA1-3831-45DE-A916-A43AB9F3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D82-BE33-40EE-B428-5E9B31C0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DBE-4C17-4A64-BB2A-AF3CBC8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4A7-2B37-4A8B-90A3-4000D17D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4D7-191F-4435-845B-C41ACFBE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D82-F042-48F3-93B3-2A7C7284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90B-27D6-4C03-9AE7-5D5DAC3B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9A6-9409-4571-A24D-3D8F8F0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66E0-33A9-4CBE-A19C-8B91DD793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19320"/>
            <a:ext cx="32004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19320"/>
            <a:ext cx="320040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19320"/>
            <a:ext cx="32004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219320"/>
            <a:ext cx="320040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371600"/>
            <a:ext cx="228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Chloride or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4290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41972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5334120"/>
            <a:ext cx="1295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438280"/>
            <a:ext cx="1828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44792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2133720"/>
            <a:ext cx="23619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dium Bicarbonate (Baking S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342900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441972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5410080"/>
            <a:ext cx="2743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25:07Z</dcterms:modified>
  <cp:revision>10</cp:revision>
  <dc:subject/>
  <dc:title>Slide 1</dc:title>
</cp:coreProperties>
</file>