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2DF-DC8A-45AD-969C-55EB0C6E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D87-524D-4598-A668-F8476CD7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500-C85D-4B9C-B2AF-FD06E153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0FC-6028-4161-9963-D317EEC1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273-A22D-40A1-98A6-8976D80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B88-13B1-4808-B7D9-D0CF5F82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AF8-59F1-4081-B7AF-A1406CBC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A16-8178-4964-9417-2495EE0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234-B884-4FE8-B9F9-33358934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89F-67C5-4E7D-99E1-DDE5BB9F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415-8655-4E13-B303-6E24D489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190-3ADE-4B71-B392-5076E34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1733-4294-4B4B-82BD-D69DCDB2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32004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19320"/>
            <a:ext cx="320040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32004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219320"/>
            <a:ext cx="320040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371600"/>
            <a:ext cx="228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Chloride or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4290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4197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33412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43828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44792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133720"/>
            <a:ext cx="23619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Bicarbonate (Baking S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4290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41972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541008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5:07Z</dcterms:modified>
  <cp:revision>10</cp:revision>
  <dc:subject/>
  <dc:title>Slide 1</dc:title>
</cp:coreProperties>
</file>