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198-5412-4F9A-A8E8-06F35C8F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066-FC14-4823-B7A5-95A83B22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A81-422E-4B90-B8BE-9FA0C80E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BC7-D65F-4985-92E6-FBC6EC56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C8C-BCF6-42FB-BFE1-7827C3A7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33E-A8D5-4D3B-9CAA-9F8A74DE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D43-FE41-4070-9CE4-5CA923E2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AFD-F869-4BF6-9E27-36491D69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2B8-B5DD-43D8-9866-BFCEAD30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C2A-A952-44E5-AE83-93DCB928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EC1-25EC-4477-A7F6-E50112A6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9F3-5F82-4F20-8C0C-D28049D8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6091-9747-42A8-98EE-7ABDCB33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880" y="449568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Name That Compound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914400"/>
            <a:ext cx="8153640" cy="57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for salad dres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ou’ll find this on a sandy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is might help an upset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Found in “citrus” fruits, such as oranges and le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This will help you get from one place to ano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914400"/>
            <a:ext cx="8153640" cy="59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for salad dress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ou’ll find this on a “sandy”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is might help an upset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Found in “citrus” fruits, such as oranges and le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This will help you get from one place to ano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0" y="762120"/>
            <a:ext cx="208296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etic Acid (Vine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8840" y="2416320"/>
            <a:ext cx="37591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licon Dioxide (Quar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444840"/>
            <a:ext cx="6553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sium Hydroxide (Milk of Magnes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495680"/>
            <a:ext cx="2057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tr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943600"/>
            <a:ext cx="1701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14:35Z</dcterms:modified>
  <cp:revision>20</cp:revision>
  <dc:subject/>
  <dc:title>Slide 1</dc:title>
</cp:coreProperties>
</file>