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0939-E76A-41BE-AEC6-93504ADD2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B393-41FC-4C40-811D-DCA493A03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3766-0503-4C39-B009-7C5027160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2510-E928-4CDE-8716-4437954A4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F7AA-64A8-4A7F-8FEB-84C044F00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57E7-F008-4DEF-B02F-B897FC115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CF61-C074-46C2-9308-0BADB09CB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C51F-4D50-41A9-8E66-DED92A6F6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FDCE-3DC5-4436-B708-080C6C83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4B07-E950-4B8B-808B-9143F24B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9C41-3B6B-4460-B6B2-EB42968E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1348-AF88-4051-A407-1E0FC426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53032-6256-40ED-99B6-24E65B15F9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952880" y="4495680"/>
            <a:ext cx="2819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Challenge #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8600" y="609480"/>
            <a:ext cx="8686800" cy="358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oper Black"/>
              </a:rPr>
              <a:t>Name That Compound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oper Black"/>
              <a:ea typeface="Cooper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3886200"/>
            <a:ext cx="3886200" cy="2449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9480" y="914400"/>
            <a:ext cx="8153640" cy="57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Used for salad dress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Si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You’ll find this on a sandy b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Mg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This might help an upset stom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Found in “citrus” fruits, such as oranges and lem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 This will help you get from one place to anoth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71680" y="2286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ive the correct name for each comp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914400"/>
            <a:ext cx="8153640" cy="59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Used for salad dress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Si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You’ll find this on a “sandy” b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Mg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This might help an upset stom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Found in “citrus” fruits, such as oranges and lem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 This will help you get from one place to anoth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396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58000" y="762120"/>
            <a:ext cx="2082960" cy="82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etic Acid (Vineg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98840" y="2416320"/>
            <a:ext cx="37591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licon Dioxide (Quart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33720" y="3444840"/>
            <a:ext cx="65530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gnesium Hydroxide (Milk of Magnes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4495680"/>
            <a:ext cx="20574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itr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91120" y="5943600"/>
            <a:ext cx="17017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than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00:06:52Z</dcterms:created>
  <dc:creator>Tracy Trimpe</dc:creator>
  <dc:description/>
  <dc:language>en-US</dc:language>
  <cp:lastModifiedBy>Tracy Trimpe</cp:lastModifiedBy>
  <dcterms:modified xsi:type="dcterms:W3CDTF">2008-03-16T15:14:35Z</dcterms:modified>
  <cp:revision>20</cp:revision>
  <dc:subject/>
  <dc:title>Slide 1</dc:title>
</cp:coreProperties>
</file>