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714-9CE2-40C3-BBA4-5A04F30D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F37-3551-453B-85DA-88F54E0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D81-FD95-42D0-80B1-84CC0F8C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00D-DECE-4B88-9705-2FD84A9C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555-72C1-4ABD-8FA5-A9E09C00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990-877C-43DF-8AAA-CB741BB4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057-2751-41A3-9ADC-0C44D6D4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1FE-5772-42FD-AE93-5EACCFD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2F9-2940-4F27-963E-E7CC65B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EAA-C905-4251-83EB-2E39C94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06E-7DA3-4CA6-AE74-72AF951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65F-698A-47A9-805E-DD4E41C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F51-E0C7-4E20-ADFB-D3FF3DB1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914400"/>
            <a:ext cx="815364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da pop bub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know this when you sme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t will make your life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mething you’ll need to make good cakes and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is will give you some pe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85800"/>
            <a:ext cx="815328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da pop bub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know this when you sme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t will make your life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mething you’ll need to make good cakes and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is will give you some pe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040" y="1255680"/>
            <a:ext cx="299736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2360520"/>
            <a:ext cx="254016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6040" y="3632040"/>
            <a:ext cx="314964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le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684680"/>
            <a:ext cx="350532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dium Bicarbonate or Baking S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6197760"/>
            <a:ext cx="170172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16:26Z</dcterms:modified>
  <cp:revision>17</cp:revision>
  <dc:subject/>
  <dc:title>Slide 1</dc:title>
</cp:coreProperties>
</file>