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A87-D464-4B80-81A7-5AD6EAC0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47D-B8E4-4504-9586-B04701A7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DDD-7091-4CC7-A427-85225A74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FAF-3CA1-4133-B71A-6C93FC28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047-68A8-46C9-94E8-1BFB30D7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FAE-BC97-4D77-A797-4C80B06C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B26-4CDE-4060-88B0-E92041CE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AD6-E331-4D9C-AA38-178F785D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7C2-51F8-48AA-AF66-0048A617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2AA-6702-4B39-B83B-60B17902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C2C-D071-4979-8303-B59406C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FB6C-0076-4844-A521-6612E51C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79BC-CAB7-4C13-9A50-B1CD33FDD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880" y="449568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Cooper Black"/>
              </a:rPr>
              <a:t>Name That Compound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914400"/>
            <a:ext cx="815364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oda pop bub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ou’ll know this when you smell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t will make your life swe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omething you’ll need to make good cakes and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is will give you some pe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68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685800"/>
            <a:ext cx="815328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oda pop bub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You’ll know this when you smell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t will make your life swe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omething you’ll need to make good cakes and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This will give you some pe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9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46040" y="1255680"/>
            <a:ext cx="299736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2360520"/>
            <a:ext cx="254016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6040" y="3632040"/>
            <a:ext cx="314964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le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684680"/>
            <a:ext cx="3505320" cy="9471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dium Bicarbonate or Baking S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6197760"/>
            <a:ext cx="1701720" cy="5205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ffe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16:26Z</dcterms:modified>
  <cp:revision>17</cp:revision>
  <dc:subject/>
  <dc:title>Slide 1</dc:title>
</cp:coreProperties>
</file>