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EAB-3F61-4EB5-8F63-3A3CE5FE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FF5-FE9D-4148-BB86-71FF49CC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004-E5EA-4779-8B02-6AC345C0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344-1ABD-48EC-8875-895BA9C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1DC-B1C6-41C8-AF81-BD4055B2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1C5-0DB5-4CED-8ACE-4C16CB30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54E-A66B-4F3C-B2BB-F883D398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6A3-7258-44D0-86E9-D8DBC0B2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FBC-C1B8-4AAC-A1E1-3289012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6AD-8ADC-494C-9439-7A095D2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A00-6212-4F98-B97E-254D252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485-E48A-45F5-9D2B-9C01728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5168-90E4-40F7-841D-B1568DF3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880" y="4495680"/>
            <a:ext cx="2819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Name That Compound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388620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219320"/>
            <a:ext cx="7696440" cy="51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– A dangerou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cid found in car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write on a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disinfect w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 – Compound found in tooth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533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correct name for each comp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457200"/>
            <a:ext cx="7543800" cy="63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5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 – A dangerous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cid found in car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write on a black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d to disinfect w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 – Compound found in tooth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46040" y="1371600"/>
            <a:ext cx="2997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2476440"/>
            <a:ext cx="2540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6040" y="3747960"/>
            <a:ext cx="4978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 Carbonate (Chal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6040" y="4967280"/>
            <a:ext cx="3073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Pe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46040" y="6110280"/>
            <a:ext cx="2997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d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1447920"/>
            <a:ext cx="3124440" cy="169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ttle Johnny was a scient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cientist he is no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what he thought was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really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01:30Z</dcterms:modified>
  <cp:revision>15</cp:revision>
  <dc:subject/>
  <dc:title>Slide 1</dc:title>
</cp:coreProperties>
</file>