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718-60FB-475B-842F-97852D52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F5A-1557-4D66-8FA5-1FD53773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AB3-EBD0-4A38-BBCA-7009EC30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608-5CAB-498C-8DAB-E906067E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1C6-1B08-40BF-86F8-C9D01D0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55B-9E27-4E5B-A9DA-0A48FA12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F69-B7F9-4FA7-907D-98B1538D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4A6-05BA-418D-9B56-436D4812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9AF-0948-4205-BD35-052F7267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587-C989-444B-B8E3-278106E4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FBA-9CBF-4EC7-818B-367280C0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8A7-7EAA-48EF-9C94-9AE3F12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F8B-84D0-4776-AE2F-59D1C3A0C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19320"/>
            <a:ext cx="769644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– A dangerous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cid found in car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write on a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disinfect w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 – Compound found in tooth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457200"/>
            <a:ext cx="7543800" cy="63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– A dangerous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cid found in car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write on a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disinfect w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 – Compound found in tooth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040" y="1371600"/>
            <a:ext cx="2997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2476440"/>
            <a:ext cx="2540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6040" y="3747960"/>
            <a:ext cx="4978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Carbonate (Chal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6040" y="4967280"/>
            <a:ext cx="3073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gen Pe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46040" y="6110280"/>
            <a:ext cx="2997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447920"/>
            <a:ext cx="3124440" cy="169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tle Johnny was a scienti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cientist he is no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what he thought was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really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01:30Z</dcterms:modified>
  <cp:revision>15</cp:revision>
  <dc:subject/>
  <dc:title>Slide 1</dc:title>
</cp:coreProperties>
</file>