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A70-9A03-4A4B-AB6F-4A96703A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AF2-0302-4D07-ACE3-6884B936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FAB4-0A65-4DC3-8649-CD6E08BD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AC5-15ED-4E09-9882-56B08378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25DE-84BC-47D6-828E-9E9CD7D5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994-6CAA-494A-AB04-03F599AD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BB4-19A2-407A-91D3-A4C79FB1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809-327F-454A-A7E8-452D690E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F89-2BF0-44B9-9114-3677CAD6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D89-CAF7-4FA6-960F-AF8F9303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B91-D74C-4574-B761-E783BE1A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706-412C-4FE7-B910-3CE3C763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D42C-BE85-47F5-A727-134621CF3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880" y="4495680"/>
            <a:ext cx="2819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Name That Compound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3886200" cy="244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219320"/>
            <a:ext cx="76964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Cl – A common seasoning for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Formula for 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 – An acid found in your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gas produced in your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– An important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533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 the correct name for each comp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838080"/>
            <a:ext cx="7696440" cy="55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7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Cl – A common seasoning for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Formula for 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 – An acid found in your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gas produced in your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– An important 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46040" y="1676520"/>
            <a:ext cx="38102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dium Chloride or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46040" y="2781360"/>
            <a:ext cx="2057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n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46040" y="3886200"/>
            <a:ext cx="38102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46040" y="4978440"/>
            <a:ext cx="1828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46040" y="5958000"/>
            <a:ext cx="1295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4:49:58Z</dcterms:modified>
  <cp:revision>8</cp:revision>
  <dc:subject/>
  <dc:title>Slide 1</dc:title>
</cp:coreProperties>
</file>