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8BC3-36C5-43D0-9B8E-76ECBCF4A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2D9D-B0D8-454A-A636-F5E739F8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42EE-B5C1-49C7-B8F5-C72E8A3FB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07EE-88D0-44C7-AC3C-EA4B623A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AA83-1C1E-4B5F-BED8-2D1ADC57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9BD9-F281-42FA-979A-3E924F0D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2B57-54B9-496C-B012-CA14609F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AF75-3BAE-4785-B492-103749A1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43C1-F9DD-4C55-B5B9-34953367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5550-D142-4C80-89AC-F08BEE02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C181-CD1D-4A2B-9A5C-EDAF9431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35B1-A312-488F-80A8-4D64726D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BBD7-0F30-40C4-B310-10D206DB7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952880" y="4495680"/>
            <a:ext cx="2819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Challenge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609480"/>
            <a:ext cx="868680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Name That Compound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3886200"/>
            <a:ext cx="3886200" cy="2449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1219320"/>
            <a:ext cx="769644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Cl – A common seasoning for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Formula for 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Cl – An acid found in your stom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A gas produced in your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– An important 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5335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 the correct name for each compou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838080"/>
            <a:ext cx="7696440" cy="55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75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Cl – A common seasoning for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Formula for 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Cl – An acid found in your stom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A gas produced in your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– An important 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46040" y="1676520"/>
            <a:ext cx="38102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dium Chloride or S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46040" y="2781360"/>
            <a:ext cx="2057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on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46040" y="3886200"/>
            <a:ext cx="38102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drochlor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46040" y="4978440"/>
            <a:ext cx="18288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46040" y="5958000"/>
            <a:ext cx="12956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Tracy Trimpe</dc:creator>
  <dc:description/>
  <dc:language>en-US</dc:language>
  <cp:lastModifiedBy>Tracy Trimpe</cp:lastModifiedBy>
  <dcterms:modified xsi:type="dcterms:W3CDTF">2008-03-16T14:49:58Z</dcterms:modified>
  <cp:revision>8</cp:revision>
  <dc:subject/>
  <dc:title>Slide 1</dc:title>
</cp:coreProperties>
</file>