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E6A-FBA2-4D62-80BA-DBFD13F2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7AD-D596-4CD6-AA20-A79DF6C9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BBD-3F9D-463F-A63E-276F472E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13D-7346-4D58-97B2-C1719054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A8CE-5533-4133-A31D-AAF1F211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70C-BEF9-4F48-B954-66851FCA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D70-F22C-4EC9-939E-86865114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5CE-4F26-46EA-B507-EAC484BD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2590-CAAF-44A1-8CF7-66C7737A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369-A66B-429C-9F35-B84FBDF3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73F-0D3B-4A2D-9FC4-3A9275EC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24B-2F55-4819-96EB-9AC07EF9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675D-82B5-442D-8B43-FF52C7631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160020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231624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307800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376380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452592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1600200"/>
            <a:ext cx="243864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2316240"/>
            <a:ext cx="243864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3078000"/>
            <a:ext cx="243864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3763800"/>
            <a:ext cx="243864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4525920"/>
            <a:ext cx="243864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03-16T01:45:42Z</dcterms:modified>
  <cp:revision>25</cp:revision>
  <dc:subject/>
  <dc:title>Slide 1</dc:title>
</cp:coreProperties>
</file>