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6926-74A7-4027-A1D9-3C1CF49EB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F9FC-A1A9-4B2A-8525-982A4CCA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F80F-D8D5-4FA2-8C6E-C4F10AAE9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7696-7814-48B2-8A60-8907789DA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96F5-31DD-4F47-BCCE-67F46353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D613-9C5C-4F28-937E-6E4900B6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0123-3D43-439C-B5AC-193EDD59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AFCA-C427-498A-B080-AFC181A7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169E-65AF-46F4-A667-813FD56B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C709-DFEA-41D5-B060-1DCF200B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6745-1861-464C-94F2-633FD8D5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A061-18D9-4517-9BC9-C8005D3A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3F1C-B3D4-40BD-AB63-2CB1BE505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Name That Element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838080"/>
            <a:ext cx="853416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Element Challeng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 txBox="1"/>
          <p:nvPr/>
        </p:nvSpPr>
        <p:spPr>
          <a:xfrm rot="20395800">
            <a:off x="1066680" y="4876560"/>
            <a:ext cx="1027080" cy="10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1566600">
            <a:off x="7162560" y="4835520"/>
            <a:ext cx="838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727800">
            <a:off x="4309560" y="540972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727800">
            <a:off x="531360" y="579096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7" name=""/>
          <p:cNvSpPr txBox="1"/>
          <p:nvPr/>
        </p:nvSpPr>
        <p:spPr>
          <a:xfrm rot="19944000">
            <a:off x="8228160" y="563868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48" name=""/>
          <p:cNvSpPr txBox="1"/>
          <p:nvPr/>
        </p:nvSpPr>
        <p:spPr>
          <a:xfrm rot="420000">
            <a:off x="2895120" y="5643720"/>
            <a:ext cx="68760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9" name=""/>
          <p:cNvSpPr txBox="1"/>
          <p:nvPr/>
        </p:nvSpPr>
        <p:spPr>
          <a:xfrm rot="20410800">
            <a:off x="5562720" y="560664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6545160"/>
            <a:ext cx="579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T.Trimpe 2008        http://sciencespot.net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380880"/>
            <a:ext cx="853416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 the name for each el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371600"/>
            <a:ext cx="2590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371600"/>
            <a:ext cx="2819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380880"/>
            <a:ext cx="853416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s a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371600"/>
            <a:ext cx="2590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76920" y="1371600"/>
            <a:ext cx="2819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1600200"/>
            <a:ext cx="243828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2316240"/>
            <a:ext cx="243828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05120" y="3078000"/>
            <a:ext cx="243828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c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3763800"/>
            <a:ext cx="243828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4525920"/>
            <a:ext cx="243828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5880" y="1600200"/>
            <a:ext cx="243864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f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5880" y="2316240"/>
            <a:ext cx="243864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l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5880" y="3078000"/>
            <a:ext cx="243864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5880" y="3763800"/>
            <a:ext cx="243864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4525920"/>
            <a:ext cx="243864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k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02:59:36Z</dcterms:created>
  <dc:creator>Tracy Trimpe</dc:creator>
  <dc:description/>
  <dc:language>en-US</dc:language>
  <cp:lastModifiedBy>Tracy Trimpe</cp:lastModifiedBy>
  <dcterms:modified xsi:type="dcterms:W3CDTF">2008-03-16T01:45:42Z</dcterms:modified>
  <cp:revision>25</cp:revision>
  <dc:subject/>
  <dc:title>Slide 1</dc:title>
</cp:coreProperties>
</file>