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F52-D94B-40A2-8019-4E2561F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19D-54B9-4614-95B8-10AEAED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155-A616-4D21-904F-65C62BEC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201-77FD-4B93-95A1-7A0E20F9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AC1-3E9A-4C0F-A025-B688CD9E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ADA-C924-44E1-A701-9323759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F3A-CB74-4052-94C4-5597C6E5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1321-03E0-4F8E-8C41-D5D69F79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27F-F7CC-49AB-A06E-BF887E0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75E-233B-4BE4-963F-95F38EF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97C-B1F3-4B3D-BDA8-1A572BB1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E4CF-A67B-416F-8451-E5F5E5F1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74CE-0550-40D4-B976-1D5056CA2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16002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31624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0780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37638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52592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35Z</dcterms:modified>
  <cp:revision>21</cp:revision>
  <dc:subject/>
  <dc:title>Slide 1</dc:title>
</cp:coreProperties>
</file>