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A7D-BB91-4C0F-99DA-E060AACD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AEC-D8A1-40E1-AFD0-25070BD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795-503A-435F-8608-F425BCB0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2E2-9150-47B5-B741-F91B209B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C0C-D30B-405D-A8A6-BD9DC656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58E-61B3-4FD3-A371-8C588AB2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C23-9DF7-4C08-BE6A-D6C895AD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3E0-5628-4D74-9F4F-BC5863BC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894-DA6C-4FB5-B054-DF8EE05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5B5-910C-436C-84A8-EB0A3A6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E33-1919-4984-A5A5-E5076EA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63A-2270-42B2-8C49-C409A7B9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74E6-8977-4594-9D82-13D06C99C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31624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0780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638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52592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16002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31624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0780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7638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452592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35Z</dcterms:modified>
  <cp:revision>21</cp:revision>
  <dc:subject/>
  <dc:title>Slide 1</dc:title>
</cp:coreProperties>
</file>