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387F-4988-4989-A885-DBADC5C42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929D-EF23-4CE3-A16E-639B33540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8FB5-FF0E-4096-B323-752936F51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A7F3-AF82-425D-9A5B-49298A808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E1A4-6357-4ACB-9ABF-3EC50E1DE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7862-874C-4976-B4F5-E35F9D5B3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CBFA-1AF9-469A-8308-D0B0D15B1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3F3F-C20E-4266-A295-1B3911A12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DCC7-561B-4C9F-82BD-70965A4D3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3343-F905-4259-BC9D-5BCA5A598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D8B5-7D33-4474-BD97-BBD7F2C6A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CDB0-81A7-4CF4-803A-BFE7B6CF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C0303-60C5-410D-B225-4D76DBE317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Name That Element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04920" y="838080"/>
            <a:ext cx="853416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oper Black"/>
              </a:rPr>
              <a:t>Element Challeng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oper Black"/>
              <a:ea typeface="Cooper Black"/>
            </a:endParaRPr>
          </a:p>
        </p:txBody>
      </p:sp>
      <p:sp>
        <p:nvSpPr>
          <p:cNvPr id="43" name=""/>
          <p:cNvSpPr txBox="1"/>
          <p:nvPr/>
        </p:nvSpPr>
        <p:spPr>
          <a:xfrm rot="20395800">
            <a:off x="1066680" y="4876560"/>
            <a:ext cx="1027080" cy="105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oper Black"/>
              <a:ea typeface="Cooper Black"/>
            </a:endParaRPr>
          </a:p>
        </p:txBody>
      </p:sp>
      <p:sp>
        <p:nvSpPr>
          <p:cNvPr id="44" name=""/>
          <p:cNvSpPr txBox="1"/>
          <p:nvPr/>
        </p:nvSpPr>
        <p:spPr>
          <a:xfrm rot="1566600">
            <a:off x="7162560" y="4835520"/>
            <a:ext cx="838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ff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ff"/>
              </a:solidFill>
              <a:latin typeface="Cooper Black"/>
              <a:ea typeface="Cooper Black"/>
            </a:endParaRPr>
          </a:p>
        </p:txBody>
      </p:sp>
      <p:sp>
        <p:nvSpPr>
          <p:cNvPr id="45" name=""/>
          <p:cNvSpPr txBox="1"/>
          <p:nvPr/>
        </p:nvSpPr>
        <p:spPr>
          <a:xfrm rot="727800">
            <a:off x="4309560" y="5409720"/>
            <a:ext cx="457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Cooper Black"/>
              <a:ea typeface="Cooper Black"/>
            </a:endParaRPr>
          </a:p>
        </p:txBody>
      </p:sp>
      <p:sp>
        <p:nvSpPr>
          <p:cNvPr id="46" name=""/>
          <p:cNvSpPr txBox="1"/>
          <p:nvPr/>
        </p:nvSpPr>
        <p:spPr>
          <a:xfrm rot="727800">
            <a:off x="531360" y="5790960"/>
            <a:ext cx="457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ff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ff"/>
              </a:solidFill>
              <a:latin typeface="Cooper Black"/>
              <a:ea typeface="Cooper Black"/>
            </a:endParaRPr>
          </a:p>
        </p:txBody>
      </p:sp>
      <p:sp>
        <p:nvSpPr>
          <p:cNvPr id="47" name=""/>
          <p:cNvSpPr txBox="1"/>
          <p:nvPr/>
        </p:nvSpPr>
        <p:spPr>
          <a:xfrm rot="19944000">
            <a:off x="8228160" y="5638680"/>
            <a:ext cx="457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oper Black"/>
              <a:ea typeface="Cooper Black"/>
            </a:endParaRPr>
          </a:p>
        </p:txBody>
      </p:sp>
      <p:sp>
        <p:nvSpPr>
          <p:cNvPr id="48" name=""/>
          <p:cNvSpPr txBox="1"/>
          <p:nvPr/>
        </p:nvSpPr>
        <p:spPr>
          <a:xfrm rot="420000">
            <a:off x="2895120" y="5643720"/>
            <a:ext cx="687600" cy="76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ff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ff"/>
              </a:solidFill>
              <a:latin typeface="Cooper Black"/>
              <a:ea typeface="Cooper Black"/>
            </a:endParaRPr>
          </a:p>
        </p:txBody>
      </p:sp>
      <p:sp>
        <p:nvSpPr>
          <p:cNvPr id="49" name=""/>
          <p:cNvSpPr txBox="1"/>
          <p:nvPr/>
        </p:nvSpPr>
        <p:spPr>
          <a:xfrm rot="20410800">
            <a:off x="5562720" y="560664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oper Black"/>
              <a:ea typeface="Cooper Black"/>
            </a:endParaRPr>
          </a:p>
        </p:txBody>
      </p:sp>
      <p:sp>
        <p:nvSpPr>
          <p:cNvPr id="50" name=""/>
          <p:cNvSpPr/>
          <p:nvPr/>
        </p:nvSpPr>
        <p:spPr>
          <a:xfrm>
            <a:off x="1752480" y="6545160"/>
            <a:ext cx="579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T.Trimpe 2008        http://sciencespot.net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380880"/>
            <a:ext cx="8534160" cy="581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 the name for each el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371600"/>
            <a:ext cx="25909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371600"/>
            <a:ext cx="2819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380880"/>
            <a:ext cx="8534160" cy="581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 the name for each el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1371600"/>
            <a:ext cx="25909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876920" y="1371600"/>
            <a:ext cx="2819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05120" y="1600200"/>
            <a:ext cx="2438280" cy="581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05120" y="2316240"/>
            <a:ext cx="2438280" cy="581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osp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05120" y="3078000"/>
            <a:ext cx="2438280" cy="581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d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05120" y="3763800"/>
            <a:ext cx="2438280" cy="581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gnes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05120" y="4525920"/>
            <a:ext cx="2438280" cy="581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ass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477120" y="1600200"/>
            <a:ext cx="2438280" cy="581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c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477120" y="2316240"/>
            <a:ext cx="2438280" cy="581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lor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477120" y="3078000"/>
            <a:ext cx="2438280" cy="581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lf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77120" y="3763800"/>
            <a:ext cx="2438280" cy="581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477120" y="4525920"/>
            <a:ext cx="2438280" cy="581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g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02:59:36Z</dcterms:created>
  <dc:creator>Tracy Trimpe</dc:creator>
  <dc:description/>
  <dc:language>en-US</dc:language>
  <cp:lastModifiedBy>Tracy Trimpe</cp:lastModifiedBy>
  <dcterms:modified xsi:type="dcterms:W3CDTF">2008-03-16T01:45:30Z</dcterms:modified>
  <cp:revision>19</cp:revision>
  <dc:subject/>
  <dc:title>Slide 1</dc:title>
</cp:coreProperties>
</file>