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C4C2-C774-496D-B543-ED01F1DEA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BA66-215E-4C6A-86FA-54BAECDA4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334F-A312-4DBA-8542-4905C6744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F4F2-49A3-4049-974A-5D8716AF8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D2EE-FA87-4E84-85A6-DE432F604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2B1A-5C16-400C-8405-A08B1CE30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4B32-A92C-47DA-A763-4F59F5E96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BD6D-02CF-48ED-9E3F-AB9B3CDC2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127C-E1DC-4638-AD75-E8D7E5F7C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EBD0-294E-4529-BE2A-7F08492A0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9100-E5BA-4777-AC16-0509116D6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09E0-C416-4634-8EF0-B41599BE6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37E57-AFEA-4201-90A6-9619323C99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4495680"/>
            <a:ext cx="6400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Name That Element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04920" y="838080"/>
            <a:ext cx="8534160" cy="373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oper Black"/>
              </a:rPr>
              <a:t>Element Challenge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oper Black"/>
              <a:ea typeface="Cooper Black"/>
            </a:endParaRPr>
          </a:p>
        </p:txBody>
      </p:sp>
      <p:sp>
        <p:nvSpPr>
          <p:cNvPr id="43" name=""/>
          <p:cNvSpPr txBox="1"/>
          <p:nvPr/>
        </p:nvSpPr>
        <p:spPr>
          <a:xfrm rot="20395800">
            <a:off x="1066680" y="4876560"/>
            <a:ext cx="1027080" cy="105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oper Black"/>
              <a:ea typeface="Cooper Black"/>
            </a:endParaRPr>
          </a:p>
        </p:txBody>
      </p:sp>
      <p:sp>
        <p:nvSpPr>
          <p:cNvPr id="44" name=""/>
          <p:cNvSpPr txBox="1"/>
          <p:nvPr/>
        </p:nvSpPr>
        <p:spPr>
          <a:xfrm rot="1566600">
            <a:off x="7162560" y="4835520"/>
            <a:ext cx="8380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ff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00ff"/>
              </a:solidFill>
              <a:latin typeface="Cooper Black"/>
              <a:ea typeface="Cooper Black"/>
            </a:endParaRPr>
          </a:p>
        </p:txBody>
      </p:sp>
      <p:sp>
        <p:nvSpPr>
          <p:cNvPr id="45" name=""/>
          <p:cNvSpPr txBox="1"/>
          <p:nvPr/>
        </p:nvSpPr>
        <p:spPr>
          <a:xfrm rot="727800">
            <a:off x="4309560" y="5409720"/>
            <a:ext cx="457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Cooper Black"/>
              <a:ea typeface="Cooper Black"/>
            </a:endParaRPr>
          </a:p>
        </p:txBody>
      </p:sp>
      <p:sp>
        <p:nvSpPr>
          <p:cNvPr id="46" name=""/>
          <p:cNvSpPr txBox="1"/>
          <p:nvPr/>
        </p:nvSpPr>
        <p:spPr>
          <a:xfrm rot="727800">
            <a:off x="531360" y="5790960"/>
            <a:ext cx="4572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ff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00ff"/>
              </a:solidFill>
              <a:latin typeface="Cooper Black"/>
              <a:ea typeface="Cooper Black"/>
            </a:endParaRPr>
          </a:p>
        </p:txBody>
      </p:sp>
      <p:sp>
        <p:nvSpPr>
          <p:cNvPr id="47" name=""/>
          <p:cNvSpPr txBox="1"/>
          <p:nvPr/>
        </p:nvSpPr>
        <p:spPr>
          <a:xfrm rot="19944000">
            <a:off x="8228160" y="5638680"/>
            <a:ext cx="457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oper Black"/>
              <a:ea typeface="Cooper Black"/>
            </a:endParaRPr>
          </a:p>
        </p:txBody>
      </p:sp>
      <p:sp>
        <p:nvSpPr>
          <p:cNvPr id="48" name=""/>
          <p:cNvSpPr txBox="1"/>
          <p:nvPr/>
        </p:nvSpPr>
        <p:spPr>
          <a:xfrm rot="420000">
            <a:off x="2895120" y="5643720"/>
            <a:ext cx="687600" cy="76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ff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00ff"/>
              </a:solidFill>
              <a:latin typeface="Cooper Black"/>
              <a:ea typeface="Cooper Black"/>
            </a:endParaRPr>
          </a:p>
        </p:txBody>
      </p:sp>
      <p:sp>
        <p:nvSpPr>
          <p:cNvPr id="49" name=""/>
          <p:cNvSpPr txBox="1"/>
          <p:nvPr/>
        </p:nvSpPr>
        <p:spPr>
          <a:xfrm rot="20410800">
            <a:off x="5562720" y="5606640"/>
            <a:ext cx="685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oper Black"/>
              <a:ea typeface="Cooper Black"/>
            </a:endParaRPr>
          </a:p>
        </p:txBody>
      </p:sp>
      <p:sp>
        <p:nvSpPr>
          <p:cNvPr id="50" name=""/>
          <p:cNvSpPr/>
          <p:nvPr/>
        </p:nvSpPr>
        <p:spPr>
          <a:xfrm>
            <a:off x="1752480" y="6545160"/>
            <a:ext cx="579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d by T.Trimpe 2008        http://sciencespot.net/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04920" y="380880"/>
            <a:ext cx="8534160" cy="5814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 the name for each el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1371600"/>
            <a:ext cx="25909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371600"/>
            <a:ext cx="28191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04920" y="380880"/>
            <a:ext cx="8534160" cy="5814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 the name for each el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38080" y="1371600"/>
            <a:ext cx="25909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876920" y="1371600"/>
            <a:ext cx="28191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05120" y="1600200"/>
            <a:ext cx="2438280" cy="5814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y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05120" y="2316240"/>
            <a:ext cx="2438280" cy="5814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osp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905120" y="3078000"/>
            <a:ext cx="2438280" cy="5814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d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905120" y="3763800"/>
            <a:ext cx="2438280" cy="5814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gnes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05120" y="4525920"/>
            <a:ext cx="2438280" cy="5814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tass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477120" y="1600200"/>
            <a:ext cx="2438280" cy="5814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c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477120" y="2316240"/>
            <a:ext cx="2438280" cy="5814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lor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477120" y="3078000"/>
            <a:ext cx="2438280" cy="5814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lf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477120" y="3763800"/>
            <a:ext cx="2438280" cy="5814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477120" y="4525920"/>
            <a:ext cx="2438280" cy="5814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g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3T02:59:36Z</dcterms:created>
  <dc:creator>Tracy Trimpe</dc:creator>
  <dc:description/>
  <dc:language>en-US</dc:language>
  <cp:lastModifiedBy>Tracy Trimpe</cp:lastModifiedBy>
  <dcterms:modified xsi:type="dcterms:W3CDTF">2008-03-16T01:45:30Z</dcterms:modified>
  <cp:revision>19</cp:revision>
  <dc:subject/>
  <dc:title>Slide 1</dc:title>
</cp:coreProperties>
</file>