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6EB-7F3A-4124-BBAD-FB8EC805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257-6626-417F-8110-7D07B48B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BB6-B2FB-4D08-B993-A29BF094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BF8-F06A-4944-AEB0-865A8C46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C3F-E9D4-42C1-B2EA-F1C48396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9B1-A910-4699-82C3-1B8160D4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183-BF9A-4766-A567-0696F9B8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36C-DF29-4D79-B779-6F05FAC9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AA4-3EE2-4B8F-833D-71012400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04C-CC08-461A-85F9-BB5E28D4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E72-EB53-4844-91CF-8792BC6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32D-91F1-46E7-B569-AC6BA208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7C51-5EE2-4EB7-8CCE-05ED624A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31624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0780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7638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52592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6002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31624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30780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7638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52592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20Z</dcterms:modified>
  <cp:revision>18</cp:revision>
  <dc:subject/>
  <dc:title>Slide 1</dc:title>
</cp:coreProperties>
</file>