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EEA3-C623-4622-891F-300B33C7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953-EBDF-4F82-B880-BF2EFDFD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B55-E94B-497F-82C7-C982CA1E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36C-60FF-4392-AC43-223517B6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7E6-3610-466E-A20A-D83ADD9B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5362-7B52-4D21-82FC-CFA39A9B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847-3C1D-4832-ABD9-8D4D2D09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853-99C7-45A6-AD1C-4B910C24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5AA-1549-4919-B539-7BE475AE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AAC-DCCA-4E5E-825D-0C0DB26C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0953-9371-40EE-9685-5160C6F2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276-79B9-4A8E-BF90-D250FB2B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90F8-8EEC-41A8-9596-110607D50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160020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231624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307800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376380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452592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160020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231624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307800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76380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525920"/>
            <a:ext cx="2438280" cy="581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03-16T01:45:20Z</dcterms:modified>
  <cp:revision>18</cp:revision>
  <dc:subject/>
  <dc:title>Slide 1</dc:title>
</cp:coreProperties>
</file>