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62D-5F98-4483-875D-53DAB874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302-89E9-4094-AE2E-6D32F1F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AA8-5129-46C7-838B-4CCB4E19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BCA-094C-4C5D-B4C9-C8FB00D0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741-8C75-4228-932A-59DB69F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3DD-76C3-42BD-BE11-0296BEB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DC0-6E5C-4767-8D62-C01EC518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86E-DEFB-4CEB-9F20-34D85086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ED6-C871-4E11-98C3-63ECE0B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A18-DDB8-4E1C-8245-5D6FD09D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0A34-B551-4566-999E-4137D762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27E-ECC7-41F9-BF27-A3982CDF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B8B-E0BC-4A19-B787-9E28F8ED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16002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31624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96080" y="30780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376380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96080" y="4525920"/>
            <a:ext cx="9144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5:13Z</dcterms:modified>
  <cp:revision>17</cp:revision>
  <dc:subject/>
  <dc:title>Slide 1</dc:title>
</cp:coreProperties>
</file>