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413F-D2A5-429B-89F1-FDD6D574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8ACB-3378-4442-8AF1-754FE7F5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6D58-5C83-4B33-B320-CEE6A2A7D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EBDB-B89F-437B-9BFA-C3D29A75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94F5-5186-4336-9335-65F4E99F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D94D-531A-4A89-B74B-DB916469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C72F-6E28-410F-8721-AF556D71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AA32-29FF-4550-A475-81494AAF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349-5220-420B-966D-081936D1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CB84-1245-46B8-8DCF-904D611E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4BB5-5CA1-4B0F-AA52-CEA0265D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C47-B0C1-451B-9F0C-BE20EF33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C59D-C19C-4022-A1AE-7FA88A4D9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ame That Element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838080"/>
            <a:ext cx="85341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Element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 rot="20395800">
            <a:off x="1066680" y="4876560"/>
            <a:ext cx="10270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566600">
            <a:off x="7162560" y="4835520"/>
            <a:ext cx="838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727800">
            <a:off x="4309560" y="540972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727800">
            <a:off x="531360" y="57909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9944000">
            <a:off x="8228160" y="56386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420000">
            <a:off x="2895120" y="5643720"/>
            <a:ext cx="68760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410800">
            <a:off x="5562720" y="560664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65451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.Trimpe 2008        http://sciencespot.net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the name for each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o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h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the name for each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o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h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160020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231624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307800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376380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452592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96080" y="160020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96080" y="231624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96080" y="307800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96080" y="376380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96080" y="452592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2:59:36Z</dcterms:created>
  <dc:creator>Tracy Trimpe</dc:creator>
  <dc:description/>
  <dc:language>en-US</dc:language>
  <cp:lastModifiedBy>Tracy Trimpe</cp:lastModifiedBy>
  <dcterms:modified xsi:type="dcterms:W3CDTF">2008-03-16T01:45:13Z</dcterms:modified>
  <cp:revision>17</cp:revision>
  <dc:subject/>
  <dc:title>Slide 1</dc:title>
</cp:coreProperties>
</file>