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3F6-75E7-476D-B1E4-B457E622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397-E638-451D-881F-E757C5FE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0C3-D8D9-4ED5-B45E-5B3F10DE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499-E8FC-4A3E-ACFB-3C6F3066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EA6-ABD1-48C8-A0B8-5DD1AB99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487-753B-4C43-A037-0F6754B9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58E-842F-4F5C-B530-A42AB952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E02-9094-4507-A6FF-868DD1B0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BD5-D8D6-43B1-ABE2-A2A0A5F8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953-C072-4D87-9B0D-385255C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21C-C977-4656-A163-7D9226AE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927-FD9D-41CF-9E5F-4C54CB10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5525-6514-4415-A9F1-C8A9D52EA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name for each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371600"/>
            <a:ext cx="2590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371600"/>
            <a:ext cx="281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g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16002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231624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30780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7638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5259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16002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31624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0120" y="30780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37638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45259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12-03T23:24:37Z</dcterms:modified>
  <cp:revision>17</cp:revision>
  <dc:subject/>
  <dc:title>Slide 1</dc:title>
</cp:coreProperties>
</file>