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802FD-7672-4AFF-8E64-04A3FEEA7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16A76-51FF-4D34-8762-B711B0BED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666CC-4A39-4EF4-9751-553F255EF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58D22-03A0-4922-B263-6F31B9BEE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27808-7064-440D-A8B9-FAEDE6377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6866B-06C4-4BAB-BDD9-0DF8FADC9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A6331-6587-4B94-816B-FDDF93E51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18AFB-1BF3-46E7-9530-E72D77B01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D3E5F-43BE-4FE4-B3F8-120FC8D67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6FFAA-3652-43E7-8957-99F660ABC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125F7-7912-4ECE-BF23-A99B27989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8F63C-F5CA-442C-901E-2D1D339A7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2E32E-2E5F-491D-9E03-45899D888F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4495680"/>
            <a:ext cx="64008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oper Black"/>
              </a:rPr>
              <a:t>Name That Element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304920" y="838080"/>
            <a:ext cx="8534160" cy="3733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99cc00"/>
                </a:solidFill>
                <a:latin typeface="Cooper Black"/>
              </a:rPr>
              <a:t>Element Challenge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99cc00"/>
              </a:solidFill>
              <a:latin typeface="Cooper Black"/>
              <a:ea typeface="Cooper Black"/>
            </a:endParaRPr>
          </a:p>
        </p:txBody>
      </p:sp>
      <p:sp>
        <p:nvSpPr>
          <p:cNvPr id="43" name=""/>
          <p:cNvSpPr txBox="1"/>
          <p:nvPr/>
        </p:nvSpPr>
        <p:spPr>
          <a:xfrm rot="20395800">
            <a:off x="1066680" y="4876560"/>
            <a:ext cx="1027080" cy="105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oper Black"/>
              </a:rPr>
              <a:t>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oper Black"/>
              <a:ea typeface="Cooper Black"/>
            </a:endParaRPr>
          </a:p>
        </p:txBody>
      </p:sp>
      <p:sp>
        <p:nvSpPr>
          <p:cNvPr id="44" name=""/>
          <p:cNvSpPr txBox="1"/>
          <p:nvPr/>
        </p:nvSpPr>
        <p:spPr>
          <a:xfrm rot="1566600">
            <a:off x="7162560" y="4835520"/>
            <a:ext cx="8380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00ff"/>
                </a:solidFill>
                <a:latin typeface="Cooper Black"/>
              </a:rPr>
              <a:t>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00ff"/>
              </a:solidFill>
              <a:latin typeface="Cooper Black"/>
              <a:ea typeface="Cooper Black"/>
            </a:endParaRPr>
          </a:p>
        </p:txBody>
      </p:sp>
      <p:sp>
        <p:nvSpPr>
          <p:cNvPr id="45" name=""/>
          <p:cNvSpPr txBox="1"/>
          <p:nvPr/>
        </p:nvSpPr>
        <p:spPr>
          <a:xfrm rot="727800">
            <a:off x="4309560" y="5409720"/>
            <a:ext cx="457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cc00"/>
                </a:solidFill>
                <a:latin typeface="Cooper Black"/>
              </a:rPr>
              <a:t>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cc00"/>
              </a:solidFill>
              <a:latin typeface="Cooper Black"/>
              <a:ea typeface="Cooper Black"/>
            </a:endParaRPr>
          </a:p>
        </p:txBody>
      </p:sp>
      <p:sp>
        <p:nvSpPr>
          <p:cNvPr id="46" name=""/>
          <p:cNvSpPr txBox="1"/>
          <p:nvPr/>
        </p:nvSpPr>
        <p:spPr>
          <a:xfrm rot="727800">
            <a:off x="531360" y="5790960"/>
            <a:ext cx="4572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00ff"/>
                </a:solidFill>
                <a:latin typeface="Cooper Black"/>
              </a:rPr>
              <a:t>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00ff"/>
              </a:solidFill>
              <a:latin typeface="Cooper Black"/>
              <a:ea typeface="Cooper Black"/>
            </a:endParaRPr>
          </a:p>
        </p:txBody>
      </p:sp>
      <p:sp>
        <p:nvSpPr>
          <p:cNvPr id="47" name=""/>
          <p:cNvSpPr txBox="1"/>
          <p:nvPr/>
        </p:nvSpPr>
        <p:spPr>
          <a:xfrm rot="19944000">
            <a:off x="8228160" y="5638680"/>
            <a:ext cx="457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oper Black"/>
              </a:rPr>
              <a:t>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oper Black"/>
              <a:ea typeface="Cooper Black"/>
            </a:endParaRPr>
          </a:p>
        </p:txBody>
      </p:sp>
      <p:sp>
        <p:nvSpPr>
          <p:cNvPr id="48" name=""/>
          <p:cNvSpPr txBox="1"/>
          <p:nvPr/>
        </p:nvSpPr>
        <p:spPr>
          <a:xfrm rot="420000">
            <a:off x="2895120" y="5643720"/>
            <a:ext cx="687600" cy="76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00ff"/>
                </a:solidFill>
                <a:latin typeface="Cooper Black"/>
              </a:rPr>
              <a:t>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00ff"/>
              </a:solidFill>
              <a:latin typeface="Cooper Black"/>
              <a:ea typeface="Cooper Black"/>
            </a:endParaRPr>
          </a:p>
        </p:txBody>
      </p:sp>
      <p:sp>
        <p:nvSpPr>
          <p:cNvPr id="49" name=""/>
          <p:cNvSpPr txBox="1"/>
          <p:nvPr/>
        </p:nvSpPr>
        <p:spPr>
          <a:xfrm rot="20410800">
            <a:off x="5562720" y="5606640"/>
            <a:ext cx="685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oper Black"/>
              </a:rPr>
              <a:t>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oper Black"/>
              <a:ea typeface="Cooper Black"/>
            </a:endParaRPr>
          </a:p>
        </p:txBody>
      </p:sp>
      <p:sp>
        <p:nvSpPr>
          <p:cNvPr id="50" name=""/>
          <p:cNvSpPr/>
          <p:nvPr/>
        </p:nvSpPr>
        <p:spPr>
          <a:xfrm>
            <a:off x="1752480" y="6545160"/>
            <a:ext cx="579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d by T.Trimpe 2008        http://sciencespot.net/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6629400" y="152280"/>
            <a:ext cx="238140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04920" y="380880"/>
            <a:ext cx="8534160" cy="5814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ve the name for each el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838080" y="1371600"/>
            <a:ext cx="25909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r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lic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r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luor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371600"/>
            <a:ext cx="281916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di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lci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gane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gnesi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04920" y="380880"/>
            <a:ext cx="8534160" cy="5814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answers are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838080" y="1371600"/>
            <a:ext cx="25909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r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lic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r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luor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876920" y="1371600"/>
            <a:ext cx="281916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di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lci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gane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gnesi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048120" y="1600200"/>
            <a:ext cx="914400" cy="5814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2316240"/>
            <a:ext cx="914400" cy="5814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048120" y="3078000"/>
            <a:ext cx="914400" cy="5814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048120" y="3763800"/>
            <a:ext cx="914400" cy="5814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048120" y="4525920"/>
            <a:ext cx="914400" cy="5814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620120" y="1600200"/>
            <a:ext cx="914400" cy="5814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620120" y="2316240"/>
            <a:ext cx="914400" cy="5814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620120" y="3078000"/>
            <a:ext cx="914400" cy="5814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620120" y="3763800"/>
            <a:ext cx="914400" cy="5814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620120" y="4525920"/>
            <a:ext cx="914400" cy="5814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3T02:59:36Z</dcterms:created>
  <dc:creator>Tracy Trimpe</dc:creator>
  <dc:description/>
  <dc:language>en-US</dc:language>
  <cp:lastModifiedBy>Tracy Trimpe</cp:lastModifiedBy>
  <dcterms:modified xsi:type="dcterms:W3CDTF">2008-12-03T23:24:37Z</dcterms:modified>
  <cp:revision>17</cp:revision>
  <dc:subject/>
  <dc:title>Slide 1</dc:title>
</cp:coreProperties>
</file>